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19D-0FE1-411A-A5CB-420D9963AA33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79B-9F8E-4E0E-986E-C9B0F8C7B29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arrfar ort anois plé a dhéanamh i do ghrúpa ar céard a shíleann tú faoi na pleananna se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846-6116-4E07-ACAE-27E6FDB3945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9240-A66A-4E40-9A2C-20C4BCC865D1}" type="slidenum">
              <a:rPr b="0" lang="en-IE" sz="1200" spc="-1" strike="noStrike">
                <a:solidFill>
                  <a:srgbClr val="12175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é aidhm an ghearrchúrsa seo cuidiú le daoine óga a bhfuil suim acu i Sínis a fhoghlaim agus níos mó eolais a bheith acu ar chultúr agus ar shlí bheatha na Síneach é sin a dhéanam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ugann an cúrsa seo bonn maith foghlama i Mandairínis Shíneach a dtig le scoláirí tógáil air ina gcuid staidéir ina dhiaidh 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g deireadh an ghearrchúrsa seo, meastar go mbeidh leibhéal líofachta pearsanta ag scoláirí sa tSínis a bheidh ag teacht a bheag nó a mhór le A1  an CEFR (Comhchreat Tagartha na hEorpa um Theangach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603-50CB-40C2-8190-E3756E4DC06D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á an gearrchúrsa comhdhéanta de cheithre shraith. Díríonn gach sraith ar théama difriúil agus cabhróidh an chéad chúpla sleamhnán eile leat beagán níos mó tuisceana a bheith agat ar na téamaí difriúla seo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0720-8AA4-4030-B0E2-E7768F2540F2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a haon, foghlaimeoidh tú chun plé a dhéanamh i Sínis fút féin, do theaghlach agus do chair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chun tú féin a chur i láthair agus eolas bunúsach fút féin agus faoi do theaghlach a mhalartú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reisin faoi chomhdhéanamh an ghnáth-theaghlaigh Shínigh agus céard leis a bhfuil gnáthlá cosúil i saol  an ghnáth-theaghlaigh Shínigh, m.sh. nósanna b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264-B495-4C96-88A2-07F002AFF59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foghlaimíonn tú faoi mheascán den tSínis agus de chultúr na Sí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r shampla, foghlaimeoidh tú chun treoracha a iarraidh agus a thabhairt i Sínis, chun na frásaí coitianta a úsáid atá ag teastáil chun siopadóireacht a dhéanamh agus béile Síneach a ord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shéadchomharthaí agus áiteanna tábhachtacha Síneacha agus a suntas cultúrt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Déanfaidh tú taighde ar fhéile Bhliain Nua na Síne agus cuirfidh tú le chéile d’fhéilire Síneach fé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1D22-F621-4E0E-88DE-F4DCEF4A3CB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rís, is meascán  an tsraith seo d’fhoghlaim teanga agus cultú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na cosúlachtaí agus na difríochtaí idir shaol na scoile anseo agus sa tSín ag daoine óga de d’aois féin.  Foghlaimeoidh tú chun focail agus frásaí coitianta a úsáid a bhíonn le cloisteáil sa seomra ranga agus an dóigh leis an am a rá i Sín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uair a fhoghlaimímid teangacha difriúla, is fiú na gnéithe comónta agus na difríochtaí idir theangacha a aithint agus na straitéisí a aimsiú a chuidíonn leat teangacha difriúla a fhoghlaim. Beidh deis agat é sin a dhéanamh sa tsraith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CFE-7069-4FC0-ABF6-341E1BC2903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rís, is meascán  an tsraith seo d’fhoghlaim teanga agus cultú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abhraítear an tSínis in áiteanna difriúla agus, sa tSín féin, is iomaí teanga agus canúint dhifriúil atá ann.  Foghlaimeoidh tú fúthu sin agus iarrfar ort freisin próifíl a dhéanamh de dhaoine agus d’imeachtaí Síneacha suntasacha ón st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gné thábhachtach de do shaol agus de shaol daoine óga sa tSín iad na meáin shóisialta. Foghlaimeoidh tú chun comparáidí agus difríochtaí a aithint idir ról na meán sóisialta anseo agus sa tSí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aoi nuálaíochtaí tábhachtacha agus tionscnaimh chaomhnaithe na Síneach agus iarrfar ort cur i láthair a thabhairt ar cheann a ndearna tú féin taighde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A5E-0B9F-44BF-83AF-FDE4F547894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á dhá thasc measúnaithe ann le haghaidh teastasaith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Taifead ar fhoghlaim teang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á dhá chuid ann leis se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arrfar ort féinmheasúnaithe agus athmhachnaimh leanúnacha a dhéanamh ar d’fhoghlaim teanga trí ráitis is-féidir-liom a chomhlánú a bhaineann le sain-inniúlachtaí tean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arrfar ort obair a dhéanamh i mbeirteanna nó i ngrúpaí beaga chun tionscnamh idirchultúrtha a dhéanamh ar ghné chultúrtha is suim leat a ndearna tú staidéar uirthi sa ghearrchúrsa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Déanfar measúnú ar na ceithre scil teanga (éisteacht, léamh, labhairt, scríobh) i gceithre cinn de mheasúnaithe gairide, amhail cur i láthair pearsanta (ag úsáid meáin dhigiteacha) nó comhrá, teist éisteachta, tasc scríofa agus tasc ina bhfuil scileanna léitheoireachta ag teastá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B60A-7E4F-49E7-9C9F-D1EB2D10C259}" type="slidenum">
              <a:rPr b="0" lang="en-IE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12175d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356-0DDB-4CFE-A7A9-9115AB27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303-21B9-49A2-9FBA-38A153B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511F-35D6-4649-96DB-0D937C0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9A34-D488-4732-8666-97F6EFFD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3ADF4-A19F-4464-A492-5913A37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15D1A-C863-4594-A9AB-70AB49F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2AD65-F227-444B-902B-645D28C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59C55-C033-490F-B17A-FAB2BB3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00854-6155-4FFD-9CE6-8111C463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8B0E8-0EE7-46AE-8013-3794DA67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0D519-4D2B-40D2-A680-D79B08D2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8CC72-CEEF-42F5-AF3B-76688961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7AB-0941-4E5D-A10E-57C327BC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0559-859C-4133-84D0-8EC90C2B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842E3-414F-487C-8805-94820EA1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29B72-FAC4-4056-A3D5-FB7E855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49BA-2989-427B-8295-8CBA583F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B06C0-A0FF-4D45-9F83-7BE83309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16151-1EE4-4C45-A4E5-8EF03F9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4B414-B228-4C13-9B86-ABE1042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3BD24-CA5A-452B-9A21-75B10BC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FC8DE-314E-4AD1-AF3D-DD59874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1EE08-1CD8-4CD7-AF6A-77F53BB1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C1B-B87C-47A2-8FA7-8178522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FB933-7925-41A0-B17C-C3124130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0443B-2D11-44E0-B535-7948DFF8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B0758-0905-49D9-B33B-C18703E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4044A-78BD-42A8-872F-DA2BD1F6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11546-F38B-47D4-A99F-4EAC3F5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D7C85-7E4D-4C16-8C3E-0443F3EB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55A0F-7035-478A-A606-3D775950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382EC-04BF-4FCD-AA71-86F5BAF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351B3-1644-429A-A813-FFFFB91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C3E22-05F7-4A06-984A-2CF2EC9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C307-28EC-437E-956B-C24D20B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0731E-721D-4438-A625-E509E3E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63D3E-3A43-4784-9ABB-7F2554DA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C7D4-C1E0-4050-9DFB-E28D275C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9E612-59B0-44BB-80F0-1F67A164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FCF02-6B6A-4078-B9C7-FB5134FB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DE3CA-BF19-4005-B6EB-08E3279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01279-9239-4360-95DB-886ED3B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572EB-9540-4EBD-B4B6-EAF3A2F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39D52-08FC-4B6F-AB6F-5AE3D47A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F7545-788A-488E-9722-D462103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D224-CB2A-47EF-BC41-03ECAE1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57653-AF1D-4963-B2D3-F18ACD78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D4960-5EFF-4DCB-B710-D0E6413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95DE-E07F-4592-BA49-9AD34349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AA8BB-1B1D-4AE0-BA13-E6924D5C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B67B1-AAE9-4A97-866A-34B6098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AA7-0F1E-4B1A-89A0-292CC2B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1F46-B26F-4B7B-ABB8-1AA5DBE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67A-D2DB-4A29-8E13-10355DD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93A9-3319-4A57-98CB-68B2AB6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471-D131-4BB3-A6C3-1A9C7E25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D5A-1C1B-4AF6-853A-D6BB62E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FBF-2B5C-4E6D-A7F5-DD1E31D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8B96-4EE1-46FC-8782-1F9EB28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5A5-750D-4536-AA3A-845DBE26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DEA1-603F-4E32-B9CD-18DBF7FA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984-E45A-490D-810A-3FB4CE20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1B1C-07F9-46FE-BEF2-EDAAB84F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8C90-93E6-4D4F-A1A4-7EDD805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E390-0E70-483D-B87E-65BBB72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FCDF-7E7C-4CEB-9063-FB1C2126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BCCE-731C-4664-9B96-4519EC95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F3D-2689-47BB-96FE-589A110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CA11-3249-4AC6-AAA7-B8F996F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139E-1FB3-46DB-9D62-E147438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0DB0-02C2-4272-9240-D85CF66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155C-098D-43A0-90EB-15219DEE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E93E-FFC7-44D4-A99D-24B99CF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A88D-6264-4614-B0E0-2DA29C0C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2A7A-FDB5-4721-91EB-8D9FE6E1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A731-2B23-4461-BD7F-3AC1A7A5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BE30-E73C-4A45-AA78-552EB1E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E304-8DAD-40A5-AF20-E076A85C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0C4-D1C1-4E76-B4AC-FE65BA95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C66E-CB32-42FF-8F4C-096284E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F0DA-A130-4A4D-AFDD-B575707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DA8A-0925-4A53-BE49-5382E22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D2C0-CB01-4574-B7AD-4E835D0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74E6-991F-4929-8AC5-EF04C40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3AC2-45FC-42E9-ADDC-A3D7468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9CD9-A520-417B-8E41-BFFB2944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E01A-7156-4B4A-80C7-79AE476B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0910-2EA0-424E-9735-E0D8F28B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97E1-C3B6-4D2A-AA27-A18FE8FC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BA2-1DCC-47F9-AD45-3F5F9C9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831D-1361-4E26-9421-CD178C5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010C-C780-4F7A-BBC4-ABEBF4D1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69D2-55D8-4C71-9682-9C7706DF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72D5A-0E01-40F6-8048-43DC06C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ECB4-FD19-45EA-8E1F-30557E4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31C1-A2D6-4C0C-9ED2-D513099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C8676-EC87-4551-95FF-8A5D18E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27D1-6616-46DA-B6D0-B04A24D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A0C8D-D43A-45B5-B39F-1FA95617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32AA-3E29-4813-A873-5491479F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70E-C585-4A2C-822B-FF679287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E564-CEE2-4370-A021-F9AD3E40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9DB2-D51F-42B0-A3B6-08ECBAB4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1839-9EA5-4D6F-B5AE-306C59B2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A06E-63A4-449B-B5B7-0928AE58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368C-3179-474D-86AC-00E7158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D4DB-F8FA-4BA7-9D78-32E9012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BD32-2CF1-47D7-A2F6-A2B7E8D1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2B5C-E3FE-43CD-A444-83D5E2C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F138-F182-4171-9D24-F0E0827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77A3-46D5-40FE-93C6-3FCEEE2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13A-E05C-4137-BE64-4D638A6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021A-E67D-4F2A-942B-BCBF1ACD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914E5-A6BA-4F4E-AEA7-8263EDBB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4647-3414-485C-B83E-D26682A1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B819-A9BC-4D64-B7F1-F1AA0D4B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4EE1-31DC-4FCE-9511-12D655F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4E3A-95EC-4A00-9083-34C4647D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9716-DC54-4EEE-8F45-B46C105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D283-F7E9-4FDF-B38A-A1DF392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2962-E643-4597-A1D7-EFFBFF4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F98B-E5A5-4646-85F2-E221E2D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D40-4CCE-4716-AD90-5DFF30E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C1401-E364-4A69-AC12-5E8B2C6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C1EB-82CA-4F52-9C35-8395E0C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C79C-87A4-46F9-98B3-C4E0DF0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6264-1A55-47A9-9AAD-74282002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D577F-EFDE-4F7F-8516-B8FE6B17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4B8B-7334-40E1-A38A-62BEC3B8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3EAA3-0AD2-47B3-A3A8-44005E8F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F6F2F-7EC4-473D-8EB7-34F2FEA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35F8E-92EF-4CA8-9700-2D72693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AD319-9105-4A0E-A959-F0DC8628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F1F-5970-427E-B3E8-1BB3BE9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4A52-DF90-4B12-B363-49DFA5B3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98B1-F2DD-4B66-BCD2-200C8E6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09B2-C1C5-46BE-B7F1-7D5E11AF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50F71-5AAF-4305-8353-9016FEF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78D1A-269B-46CA-BAC1-3A34B0B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16AC-1A27-4254-8EA2-581DB711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7DA5-4B64-4F86-B0C5-19CF8375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7F97E-1FB0-47F3-90C8-80196B0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C8473-9886-48D5-B964-9C0A73C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72EC7-2F01-4CB2-8ADA-16843D74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275-9CB8-44D4-A9CD-BDBBDFA18A04}" type="slidenum">
              <a:rPr b="0" lang="en-GB" sz="1600" spc="-1" strike="noStrike">
                <a:solidFill>
                  <a:srgbClr val="8a8b9c"/>
                </a:solidFill>
                <a:latin typeface="Arial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FCA2-23C9-44EE-A244-B46653A35944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556-B5C8-4127-A0F6-0D2D1BC910EC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66F-AF64-4DDB-8BC7-A876FE2AA130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2E2-3D35-455E-84E1-B5381FF14CCE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CA4C-D175-40D6-81A7-FD5745C0E53A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FCA-01F5-4B82-A215-F02AA0D758C9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D5C6-42D6-475B-A329-C7229949E8FA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C49-1948-4B03-A376-7ACDA9966614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21D7-F0B3-4233-BE86-00D77AD9E20E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CDF4-8C6A-43FD-B1B9-E2051DAF8BE1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12175d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Click to edit the outline text format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1" marL="830520" indent="-31860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con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2" marL="1278720" indent="-254520">
              <a:spcBef>
                <a:spcPts val="1049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Third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3" marL="1790640" indent="-254520">
              <a:spcBef>
                <a:spcPts val="1049"/>
              </a:spcBef>
              <a:buClr>
                <a:srgbClr val="12175d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our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4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Fif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5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ix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  <a:p>
            <a:pPr lvl="6" marL="2302920" indent="-254880">
              <a:spcBef>
                <a:spcPts val="1049"/>
              </a:spcBef>
              <a:buClr>
                <a:srgbClr val="12175d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12175d"/>
                </a:solidFill>
                <a:latin typeface="Cambria"/>
              </a:rPr>
              <a:t>Seventh Outline Level</a:t>
            </a:r>
            <a:endParaRPr b="0" lang="en-US" sz="42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a8b9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D85-664D-4344-82EF-8A8B86CF699B}" type="slidenum">
              <a:rPr b="0" lang="en-GB" sz="1600" spc="-1" strike="noStrike">
                <a:solidFill>
                  <a:srgbClr val="8a8b9c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4000" y="1796760"/>
            <a:ext cx="424800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800" spc="-1" strike="noStrike">
                <a:solidFill>
                  <a:srgbClr val="12175d"/>
                </a:solidFill>
                <a:latin typeface="Bitter Bold"/>
              </a:rPr>
              <a:t>An tSínis agus Cultúr na Síne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12175d"/>
                </a:solidFill>
                <a:latin typeface="Bitter Bold"/>
              </a:rPr>
              <a:t>Comhairliúchán Scoláirí ar Ghearrchúrsa</a:t>
            </a:r>
            <a:endParaRPr b="0" lang="en-US" sz="28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rcRect l="28778" t="26914" r="33294" b="8873"/>
          <a:stretch/>
        </p:blipFill>
        <p:spPr>
          <a:xfrm>
            <a:off x="4214880" y="981000"/>
            <a:ext cx="48290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"/>
          <p:cNvPicPr/>
          <p:nvPr/>
        </p:nvPicPr>
        <p:blipFill>
          <a:blip r:embed="rId1"/>
          <a:stretch/>
        </p:blipFill>
        <p:spPr>
          <a:xfrm>
            <a:off x="1762200" y="1266840"/>
            <a:ext cx="561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95280" y="1701720"/>
            <a:ext cx="46814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Tuairim is 100 uair foghlam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Arna theagasc thar 1, 2 nó 3 bliana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12175d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400" spc="-1" strike="noStrike">
                <a:solidFill>
                  <a:srgbClr val="12175d"/>
                </a:solidFill>
                <a:latin typeface="Bitter Bold"/>
              </a:rPr>
              <a:t>Is féidir oiread le 4 ghearrchúrsa a chur san áireamh sa teastas</a:t>
            </a:r>
            <a:endParaRPr b="0" lang="en-US" sz="24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Gearrchúrsa na Sínise agus 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Chultúr na Síne </a:t>
            </a:r>
            <a:endParaRPr b="0" lang="en-US" sz="32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5" name="Picture 6" descr="Tattoo Patterns Free Design Chinese Symbols 2011 Design 427x336 Pixel"/>
          <p:cNvPicPr/>
          <p:nvPr/>
        </p:nvPicPr>
        <p:blipFill>
          <a:blip r:embed="rId1"/>
          <a:stretch/>
        </p:blipFill>
        <p:spPr>
          <a:xfrm>
            <a:off x="4992840" y="1417680"/>
            <a:ext cx="41734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12175d"/>
                </a:solidFill>
                <a:latin typeface="Bitter Bold"/>
              </a:rPr>
              <a:t>An tSínis agus Cultúr na Síne</a:t>
            </a:r>
            <a:endParaRPr b="0" lang="en-US" sz="3200" spc="-1" strike="noStrike">
              <a:solidFill>
                <a:srgbClr val="12175d"/>
              </a:solidFill>
              <a:latin typeface="Calibri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3419640" y="1989000"/>
            <a:ext cx="540036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ts val="3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2175d"/>
                </a:solidFill>
                <a:latin typeface="Arial"/>
              </a:rPr>
              <a:t>Aidhm:</a:t>
            </a: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ts val="35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2175d"/>
                </a:solidFill>
                <a:latin typeface="Arial"/>
              </a:rPr>
              <a:t>Is é is aidhm don ghearrchúrsa seo cuidiú le scoláirí bunleibhéil líofachta atá socraithe don tSínis scríofa agus labhartha a bhaint amach, a bhfeasacht chultúrtha agus idirchultúrtha a fhorbairt, agus  bealaí a fhoghlaim chun a ndul chun cinn i sealbhú na Sínise a phleanáil agus a mheas.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09" name="Picture 8" descr="http://photoalbum.davison.ca/ZhenPhotoDiary/Images/dragon2.jpg"/>
          <p:cNvPicPr/>
          <p:nvPr/>
        </p:nvPicPr>
        <p:blipFill>
          <a:blip r:embed="rId1"/>
          <a:stretch/>
        </p:blipFill>
        <p:spPr>
          <a:xfrm>
            <a:off x="-25560" y="2708280"/>
            <a:ext cx="3306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                            </a:t>
            </a:r>
            <a:br>
              <a:rPr sz="3700"/>
            </a:b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Léargas ar an gCúrsa</a:t>
            </a:r>
            <a:endParaRPr b="0" lang="en-US" sz="3700" spc="-1" strike="noStrike">
              <a:solidFill>
                <a:srgbClr val="12175d"/>
              </a:solidFill>
              <a:latin typeface="Calibri"/>
            </a:endParaRPr>
          </a:p>
        </p:txBody>
      </p:sp>
      <p:pic>
        <p:nvPicPr>
          <p:cNvPr id="511" name="Content Placeholder 19467" descr=""/>
          <p:cNvPicPr/>
          <p:nvPr/>
        </p:nvPicPr>
        <p:blipFill>
          <a:blip r:embed="rId1"/>
          <a:stretch/>
        </p:blipFill>
        <p:spPr>
          <a:xfrm>
            <a:off x="3498840" y="1579680"/>
            <a:ext cx="5346720" cy="394956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5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17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18" name="Picture 14" descr="Learning Chinese Writing Symbols, stroke order"/>
          <p:cNvPicPr/>
          <p:nvPr/>
        </p:nvPicPr>
        <p:blipFill>
          <a:blip r:embed="rId2"/>
          <a:stretch/>
        </p:blipFill>
        <p:spPr>
          <a:xfrm>
            <a:off x="0" y="2060640"/>
            <a:ext cx="3614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908000" y="1484280"/>
          <a:ext cx="6096240" cy="3749760"/>
        </p:xfrm>
        <a:graphic>
          <a:graphicData uri="http://schemas.openxmlformats.org/drawingml/2006/table">
            <a:tbl>
              <a:tblPr/>
              <a:tblGrid>
                <a:gridCol w="2183040"/>
                <a:gridCol w="3913200"/>
              </a:tblGrid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1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Mé féin, mo theaghlach agus mo chaird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Beannú pearsant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Eolas pearsanta a mhalartú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uimeanna agus sainchaithimh aimsir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Eolas a roinnt ar shaol an bhaile agus an teaghlaigh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523880" y="1397160"/>
          <a:ext cx="6096240" cy="374940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7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2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muigh agus ar do chois in áiteanna poiblí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néithe áiteanna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taisteal thart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ultúr a léiriú trí cheiliúradh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 shiopadóireacht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mach le haghaidh béile Síneach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1523880" y="1397160"/>
          <a:ext cx="6096240" cy="3327120"/>
        </p:xfrm>
        <a:graphic>
          <a:graphicData uri="http://schemas.openxmlformats.org/drawingml/2006/table">
            <a:tbl>
              <a:tblPr/>
              <a:tblGrid>
                <a:gridCol w="2184480"/>
                <a:gridCol w="3911760"/>
              </a:tblGrid>
              <a:tr h="33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3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Oideachas agus Scoil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g dul ar scoil sa tSí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náthlá scoil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m taobh amuigh den seomra ranga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angacha a fhoghlaim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1523880" y="1397160"/>
          <a:ext cx="6096240" cy="3184200"/>
        </p:xfrm>
        <a:graphic>
          <a:graphicData uri="http://schemas.openxmlformats.org/drawingml/2006/table">
            <a:tbl>
              <a:tblPr/>
              <a:tblGrid>
                <a:gridCol w="2040120"/>
                <a:gridCol w="4056120"/>
              </a:tblGrid>
              <a:tr h="31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raith 4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n tSínis agus saoránaigh óga dhomhanda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1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opaicí: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Domhan na Sínise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eisteanna sna meái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ínigh ar fud an domhain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608040"/>
                          <a:tab algn="l" pos="1216080"/>
                          <a:tab algn="l" pos="1824120"/>
                          <a:tab algn="l" pos="2432160"/>
                          <a:tab algn="l" pos="3040200"/>
                          <a:tab algn="l" pos="3648240"/>
                          <a:tab algn="l" pos="4255920"/>
                          <a:tab algn="l" pos="4863960"/>
                          <a:tab algn="l" pos="5472000"/>
                          <a:tab algn="l" pos="6080040"/>
                          <a:tab algn="l" pos="6688080"/>
                          <a:tab algn="l" pos="7296120"/>
                          <a:tab algn="l" pos="7904160"/>
                          <a:tab algn="l" pos="8512200"/>
                          <a:tab algn="l" pos="9120240"/>
                          <a:tab algn="l" pos="9728280"/>
                          <a:tab algn="l" pos="10336320"/>
                          <a:tab algn="l" pos="1094436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ireagáin agus nuálaíochtaí Síneacha </a:t>
                      </a:r>
                      <a:endParaRPr b="0" lang="en-US" sz="2400" spc="-1" strike="noStrike">
                        <a:solidFill>
                          <a:srgbClr val="12175d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ounded Rectangle 10"/>
          <p:cNvSpPr/>
          <p:nvPr/>
        </p:nvSpPr>
        <p:spPr>
          <a:xfrm>
            <a:off x="1547640" y="3524400"/>
            <a:ext cx="597708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4" name="Rounded Rectangle 9"/>
          <p:cNvSpPr/>
          <p:nvPr/>
        </p:nvSpPr>
        <p:spPr>
          <a:xfrm>
            <a:off x="1547640" y="1717560"/>
            <a:ext cx="59770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5" name="Title 1"/>
          <p:cNvSpPr/>
          <p:nvPr/>
        </p:nvSpPr>
        <p:spPr>
          <a:xfrm>
            <a:off x="395280" y="45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                              </a:t>
            </a:r>
            <a:r>
              <a:rPr b="0" lang="en-IE" sz="3700" spc="-1" strike="noStrike">
                <a:solidFill>
                  <a:srgbClr val="12175d"/>
                </a:solidFill>
                <a:latin typeface="Bitter Bold"/>
              </a:rPr>
              <a:t>Measúnú</a:t>
            </a:r>
            <a:endParaRPr b="0" lang="en-US" sz="3700" spc="-1" strike="noStrike">
              <a:solidFill>
                <a:srgbClr val="12175d"/>
              </a:solidFill>
              <a:latin typeface="Cambria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2987640" y="202572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en-IE" sz="2000" spc="-1" strike="noStrike">
                <a:solidFill>
                  <a:srgbClr val="12175d"/>
                </a:solidFill>
                <a:latin typeface="Bitter Bold"/>
              </a:rPr>
              <a:t>Taifead ar fhoghlaim teanga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2175d"/>
                </a:solidFill>
                <a:latin typeface="Bitter Bold"/>
              </a:rPr>
              <a:t>          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Measúnú ar cheithre scil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	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 </a:t>
            </a:r>
            <a:r>
              <a:rPr b="0" lang="pt-BR" sz="2000" spc="-1" strike="noStrike">
                <a:solidFill>
                  <a:srgbClr val="12175d"/>
                </a:solidFill>
                <a:latin typeface="Bitter Bold"/>
              </a:rPr>
              <a:t>na teanga</a:t>
            </a: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175d"/>
              </a:solidFill>
              <a:latin typeface="Cambria"/>
            </a:endParaRPr>
          </a:p>
        </p:txBody>
      </p:sp>
      <p:pic>
        <p:nvPicPr>
          <p:cNvPr id="527" name="Picture 2" descr="https://encrypted-tbn0.gstatic.com/images?q=tbn:ANd9GcS1cfYjXXxLKKeGxqbH-4yTc11T2NU_-8cOGOgrkMZI1goRXNrN"/>
          <p:cNvPicPr/>
          <p:nvPr/>
        </p:nvPicPr>
        <p:blipFill>
          <a:blip r:embed="rId1"/>
          <a:stretch/>
        </p:blipFill>
        <p:spPr>
          <a:xfrm>
            <a:off x="1187280" y="1717560"/>
            <a:ext cx="2667240" cy="1324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http://regalinstitute.in/wp-content/uploads/2011/01/language-skills4.gif"/>
          <p:cNvPicPr/>
          <p:nvPr/>
        </p:nvPicPr>
        <p:blipFill>
          <a:blip r:embed="rId2"/>
          <a:srcRect l="22967" t="0" r="12964" b="0"/>
          <a:stretch/>
        </p:blipFill>
        <p:spPr>
          <a:xfrm>
            <a:off x="1187280" y="3524400"/>
            <a:ext cx="280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0:10:40Z</dcterms:created>
  <dc:creator>John Halbert</dc:creator>
  <dc:description/>
  <dc:language>en-US</dc:language>
  <cp:lastModifiedBy>Fred Boss</cp:lastModifiedBy>
  <dcterms:modified xsi:type="dcterms:W3CDTF">2014-01-16T12:54:22Z</dcterms:modified>
  <cp:revision>16</cp:revision>
  <dc:subject/>
  <dc:title>PE short course consultation</dc:title>
</cp:coreProperties>
</file>