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move the slide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31EE-BE83-4E5A-A7BD-0021C675923F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75E8-B561-43EF-9EAB-ABD35E7E6C34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arrfar ort anois plé a dhéanamh i do ghrúpa ar céard a shíleann tú faoi na pleananna se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9DB1-C221-48D8-AFD6-F6BFCDD4CA1B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6D0D-5C47-4923-9C70-42F427437140}" type="slidenum">
              <a:rPr b="0" lang="en-IE" sz="1200" spc="-1" strike="noStrike">
                <a:solidFill>
                  <a:srgbClr val="12175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s é aidhm an ghearrchúrsa seo cuidiú le daoine óga a bhfuil suim acu i Sínis a fhoghlaim agus níos mó eolais a bheith acu ar chultúr agus ar shlí bheatha na Síneach é sin a dhéanam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ugann an cúrsa seo bonn maith foghlama i Mandairínis Shíneach a dtig le scoláirí tógáil air ina gcuid staidéir ina dhiaidh 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Ag deireadh an ghearrchúrsa seo, meastar go mbeidh leibhéal líofachta pearsanta ag scoláirí sa tSínis a bheidh ag teacht a bheag nó a mhór le A1  an CEFR (Comhchreat Tagartha na hEorpa um Theangach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C458-4188-4966-8708-6CC9A02133BA}" type="slidenum">
              <a:rPr b="0" lang="en-IE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á an gearrchúrsa comhdhéanta de cheithre shraith. Díríonn gach sraith ar théama difriúil agus cabhróidh an chéad chúpla sleamhnán eile leat beagán níos mó tuisceana a bheith agat ar na téamaí difriúla seo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0792-E137-430C-98F7-FBCEC4F2EE05}" type="slidenum">
              <a:rPr b="0" lang="en-IE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 Sraith a haon, foghlaimeoidh tú chun plé a dhéanamh i Sínis fút féin, do theaghlach agus do chair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Foghlaimeoidh tú chun tú féin a chur i láthair agus eolas bunúsach fút féin agus faoi do theaghlach a mhalartú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Foghlaimeoidh tú freisin faoi chomhdhéanamh an ghnáth-theaghlaigh Shínigh agus céard leis a bhfuil gnáthlá cosúil i saol  an ghnáth-theaghlaigh Shínigh, m.sh. nósanna b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62C6-2D38-4EDB-B9E0-E9A394D31D43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 Sraith 2, foghlaimíonn tú faoi mheascán den tSínis agus de chultúr na Sí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Mar shampla, foghlaimeoidh tú chun treoracha a iarraidh agus a thabhairt i Sínis, chun na frásaí coitianta a úsáid atá ag teastáil chun siopadóireacht a dhéanamh agus béile Síneach a ord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Foghlaimeoidh tú faoi shéadchomharthaí agus áiteanna tábhachtacha Síneacha agus a suntas cultúrth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Déanfaidh tú taighde ar fhéile Bhliain Nua na Síne agus cuirfidh tú le chéile d’fhéilire Síneach fé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62C8-B27E-4E76-8BCE-6169B8C87935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Arís, is meascán  an tsraith seo d’fhoghlaim teanga agus cultú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Foghlaimeoidh tú faoi na cosúlachtaí agus na difríochtaí idir shaol na scoile anseo agus sa tSín ag daoine óga de d’aois féin.  Foghlaimeoidh tú chun focail agus frásaí coitianta a úsáid a bhíonn le cloisteáil sa seomra ranga agus an dóigh leis an am a rá i Sín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Nuair a fhoghlaimímid teangacha difriúla, is fiú na gnéithe comónta agus na difríochtaí idir theangacha a aithint agus na straitéisí a aimsiú a chuidíonn leat teangacha difriúla a fhoghlaim. Beidh deis agat é sin a dhéanamh sa tsraith se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CA29-2D01-45FF-8CD5-8410EFFF3D47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Arís, is meascán  an tsraith seo d’fhoghlaim teanga agus cultú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Labhraítear an tSínis in áiteanna difriúla agus, sa tSín féin, is iomaí teanga agus canúint dhifriúil atá ann.  Foghlaimeoidh tú fúthu sin agus iarrfar ort freisin próifíl a dhéanamh de dhaoine agus d’imeachtaí Síneacha suntasacha ón st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s gné thábhachtach de do shaol agus de shaol daoine óga sa tSín iad na meáin shóisialta. Foghlaimeoidh tú chun comparáidí agus difríochtaí a aithint idir ról na meán sóisialta anseo agus sa tSí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Foghlaimeoidh tú faoi nuálaíochtaí tábhachtacha agus tionscnaimh chaomhnaithe na Síneach agus iarrfar ort cur i láthair a thabhairt ar cheann a ndearna tú féin taighde ai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80AC-1488-4095-9406-27AAEBB7AC17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á dhá thasc measúnaithe ann le haghaidh teastasaith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Taifead ar fhoghlaim teang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á dhá chuid ann leis se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arrfar ort féinmheasúnaithe agus athmhachnaimh leanúnacha a dhéanamh ar d’fhoghlaim teanga trí ráitis is-féidir-liom a chomhlánú a bhaineann le sain-inniúlachtaí teang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arrfar ort obair a dhéanamh i mbeirteanna nó i ngrúpaí beaga chun tionscnamh idirchultúrtha a dhéanamh ar ghné chultúrtha is suim leat a ndearna tú staidéar uirthi sa ghearrchúrsa se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Déanfar measúnú ar na ceithre scil teanga (éisteacht, léamh, labhairt, scríobh) i gceithre cinn de mheasúnaithe gairide, amhail cur i láthair pearsanta (ag úsáid meáin dhigiteacha) nó comhrá, teist éisteachta, tasc scríofa agus tasc ina bhfuil scileanna léitheoireachta ag teastá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01F8-3069-45FF-8BA4-FCF67F4ED894}" type="slidenum">
              <a:rPr b="0" lang="en-IE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E4E-7295-416E-9CC8-DC75D228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F320-2930-4791-85C2-38D9F88A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DF974-4774-4C57-A78A-32E4EBEA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0B0BB-EE32-4AF2-80E9-3880BEC1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AEDCF-EFF5-4611-B8B5-62FCBE92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7AA05-040D-487C-AB88-11341D36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04B33-52AC-40DB-9D4B-2E167DBD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63796-A90E-4DD9-BAE0-C03FE06B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792CF-4ADA-4ED8-BFDF-5719E4E6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C261F-5F44-4AA9-967D-7EE3BB92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64BC1-BD06-4C2A-B6AC-EFA18D81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089D3-06C9-4849-BF32-E8BE2C35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686B-9BF4-433D-BD36-027D4C14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0DD28-2490-4C8C-A79D-AB055D70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4C65B-8B35-4016-B333-6EA04936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AD022-FB9E-458F-8EEB-94E4AD71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45C6D-8681-4EC7-B75A-427FC7B8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58F50-4917-42B1-9D17-370B110F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D508F-98C6-4DC3-9BAC-AC7E28FF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A1244-CB82-48F7-8B30-98867AC8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D61FD-EA55-447C-ABB7-AF14A6C6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892ED-7DBD-4A06-886C-88E1BAC0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9B705-0524-4E2B-84BE-03B858AD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784-D596-4224-8E51-21D6507E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DA19D-7A60-4E59-8FE2-9D9EC7F2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51238-900E-4656-AE2B-96282BEC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58F31-A7E8-4487-96AF-C152B290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3A491-406B-4FAF-B0EC-3C8DF4D4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93D10-2309-4024-9E9C-AD52A808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E09EA-8174-4281-8C2B-5DDB720C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52B0B-C69C-4AC8-A84D-B2712213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3CEA4-10ED-4CB8-BBAF-23ACD815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C1144-9E98-4ABA-A6E1-A00AB1EF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24F2E-F599-4B4D-B11A-EB024AEE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BFE3-EB61-4205-980E-DA7CABDB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BDB57-415A-43AE-B6DC-090BB250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AB8DE-A14B-42ED-B043-319ADCD1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24A49-35DA-40AA-8284-295D5B81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4E9E3-C70C-4972-8170-38BD6A94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C0D1F-2E9F-4119-88E6-1DA42728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82B28-EBF9-4406-9E2A-9B87EE43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BEDA1-9DDA-420D-AE2F-9D298553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08481-EFE9-492C-8D6C-A6654416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18950-A8A3-43E8-9FDC-BD77246F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8178D-1F48-4E92-AD04-603C9979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3545-5CF0-4751-9E6E-F7EAF175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DE19E-E0CF-48C6-8EBB-A9A71EB7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A1119-D3EF-442A-B298-5D538E7B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A9BFB-4ABD-4267-97BF-F30854AE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53096-7D11-4102-B520-A40C7403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A95C7-D6B3-412E-BD0F-90CF76C0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54CB-E8A5-46B2-8FA6-256F1A4E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B839-7A8F-41F1-B1E7-FF2323B0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2D50-E10D-4063-B184-8F83F43E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476B-7C88-4F96-B56E-E9AE5619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1BAB-8F24-4092-8EAE-455F2992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F1E-C144-4CF9-A5B1-D0D2B7EA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9E01-E5A1-48E2-BF5B-91EAA366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DACB-0496-48E4-9E20-E1D56971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0023-1851-428C-849A-F7748D38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56E4-751D-475C-BAE4-C0EADCCB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B2EB-22BA-4EE8-BF49-5E9E0B28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A7D17-D552-4683-B148-2A5BE4D1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78D6A-1461-4CE6-9A0E-ED4B1683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F1A14-6FBF-43C5-BCB7-EF1CE410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4C654-C453-453B-AE47-3FEE0D80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DEAB9-BB3A-4C6D-970D-F6B418D5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43E-8562-45F0-861C-6F730BA6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B77EA-F407-4D63-9387-0CC040EB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FD989-3277-4003-8FD1-5D867F4A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232A7-6185-4AB4-83A3-CBC78A61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2DE35-504C-4E94-8C90-723F36C3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2FAF9-65B7-4170-9845-9F7F2C45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0F45A-580F-4F13-ADEC-783A408E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10E6F-8EC8-4E83-B602-1B9D49A9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62200-36E1-4256-9589-CA1A7A72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95E52-B56A-4E13-9ADF-6B97C68F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AAE4E-4852-4E36-8BC5-69F8A02D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34D-C5C1-4F94-BCA8-D38FB13F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54F91-9896-4503-A295-9C4C15FF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6B35A-D170-4387-AAF5-E138BB76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66EF8-D482-48F8-A75B-E3540701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65C2F-82FE-43BF-9D91-89316DBF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663DD-EE1B-4F68-92B8-338BAE4D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EF40B-8B9E-4242-9A1A-57EB10AD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E4B67-D77E-4576-95C9-91BA31A9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23473-07AE-40DC-A2C2-A74F3B2F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F22D1-8F8F-4442-BC52-F282AB16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43D9B-D66B-410F-8862-58C14661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37E-02FB-406D-9C15-571E69F8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A5FB5-F9B9-46F1-BF7D-6CA17CB4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81D47-9E73-406D-978C-1D2B614F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D4903-E90D-4C64-8D30-A2748656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6457F-BC12-4E81-9349-B6F854CF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0D397-EDD9-4992-9787-CC5AFE44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B7986-0A6B-49D7-A24A-BB4412D8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C6DDF-E9F6-4CAE-9356-DA48B801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55AAC-947A-44F6-8435-A39D0621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19A30-890E-4AEF-837C-72C14F24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B3CCD-DB6C-4BEE-AFF8-EF986E64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3C0-00A1-4733-A19C-03269B20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6ADE4-DAB2-418B-9F4B-859F84C0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F7540-9D54-47F6-8131-91B32659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794A4-CA38-4DD6-B61E-7639EC5E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1414A-39F0-4E74-BD00-E443227C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5BC6C-FA10-450B-BE15-BAFD5B16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03504-CE32-4FF7-9464-6CEDF9A1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4773B-275B-456D-8368-366244D6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8183B-F6E4-4B36-BE1E-D55521D4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027F5-3192-48DC-959D-76F7B3FB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0EFFB-876B-40FB-9C35-5998182F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399-E865-411B-B0D7-120E9EA8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D2A37-5945-45CA-A700-F71B85CA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A1527-A5B5-47C2-8163-2D7111ED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FE540-8E28-4F2E-A3B9-25DCC7B1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617D6-3525-4FD0-BC67-D31A357C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55DE6-0534-4F3A-B564-0CB942D7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B7BA4-6314-420C-93CE-E70489D0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902C3-F45D-46DA-94EC-DC5CFEEB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0E1B0-D133-4030-9EB2-146CF221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CDD17-0661-4E1C-A7CA-8D0A3845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0FBBD-572E-48A4-9372-1E6F1A4B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6F80-DE45-4D54-AC4E-2EC78F5C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5D0BB-9FBF-4843-BD8E-E07BE4FC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F70B3-C9F9-4E68-9951-E0240427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1531F-CE80-4334-9E99-CD6F035D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9E49B-1C13-4DEA-90F1-091D0B03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7DF4C-80CD-4663-A111-2E5F046A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FDA8A-E76A-4B66-AC73-33A3301E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CC742-506D-4386-BFFA-0753BF54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E20F5-1DA9-4CC2-ADB3-2251FD88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AF08E-A42B-46B7-9D3E-7135D686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E69AD-78AD-458D-8AA8-2AE2D86C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86AF-21D2-4733-91EF-EB354890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946D4-3A78-4286-ADA2-BB11B7EE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55991-563D-4072-B2E1-C022D66B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7ECF1-2795-4DE2-902B-D5ABF04B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E9F48-E59C-4D98-9AAC-E22779BA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28ABF-C282-43E4-8AAB-994FEED9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27195-F723-44EA-884A-A298627E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42D4F-215C-41C0-8D90-45482FAE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C9AA8-B662-4826-A54E-0500B297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49B1A-8419-4B13-8D9B-4DA77A29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CEACD-3E73-48FD-AF52-039FD0F9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F692-4202-47DA-9ABE-774DA97BAD9A}" type="slidenum">
              <a:rPr b="0" lang="en-GB" sz="1600" spc="-1" strike="noStrike">
                <a:solidFill>
                  <a:srgbClr val="8a8b9c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84FB-925F-4CE5-B039-33B7451986CE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38B9-DE9E-4CFE-B547-5CE26AA63812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C4C1-8D9F-403B-91BD-A3CA54B89233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70E7-E427-4547-BC62-D56AA48224AD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5750-D1FD-4E8B-9E94-A063C3A700BF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ABC0-80F4-4129-8654-625C011E9EC0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1375-9F29-4548-A1EF-03260E3C3487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8927-D09D-4C7D-9D41-48A905DE1A7F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4554-A834-4752-8E9F-A9C8FAC6CA10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254E-27D1-4CBF-81AE-83CED3D33689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0543-D752-49B4-AEDA-1E571549E683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24000" y="1796760"/>
            <a:ext cx="4248000" cy="21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800" spc="-1" strike="noStrike">
                <a:solidFill>
                  <a:srgbClr val="12175d"/>
                </a:solidFill>
                <a:latin typeface="Bitter Bold"/>
              </a:rPr>
              <a:t>An tSínis agus Cultúr na Síne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12175d"/>
                </a:solidFill>
                <a:latin typeface="Bitter Bold"/>
              </a:rPr>
              <a:t>Comhairliúchán Scoláirí ar Ghearrchúrsa</a:t>
            </a:r>
            <a:endParaRPr b="0" lang="en-US" sz="2800" spc="-1" strike="noStrike">
              <a:solidFill>
                <a:srgbClr val="12175d"/>
              </a:solidFill>
              <a:latin typeface="Calibri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rcRect l="28778" t="26914" r="33294" b="8873"/>
          <a:stretch/>
        </p:blipFill>
        <p:spPr>
          <a:xfrm>
            <a:off x="4214880" y="981000"/>
            <a:ext cx="48290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" descr=""/>
          <p:cNvPicPr/>
          <p:nvPr/>
        </p:nvPicPr>
        <p:blipFill>
          <a:blip r:embed="rId1"/>
          <a:stretch/>
        </p:blipFill>
        <p:spPr>
          <a:xfrm>
            <a:off x="1762200" y="1266840"/>
            <a:ext cx="56196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95280" y="1701720"/>
            <a:ext cx="46814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400" spc="-1" strike="noStrike">
                <a:solidFill>
                  <a:srgbClr val="12175d"/>
                </a:solidFill>
                <a:latin typeface="Bitter Bold"/>
              </a:rPr>
              <a:t>Tuairim is 100 uair foghlama</a:t>
            </a:r>
            <a:endParaRPr b="0" lang="en-US" sz="2400" spc="-1" strike="noStrike">
              <a:solidFill>
                <a:srgbClr val="12175d"/>
              </a:solidFill>
              <a:latin typeface="Cambria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400" spc="-1" strike="noStrike">
                <a:solidFill>
                  <a:srgbClr val="12175d"/>
                </a:solidFill>
                <a:latin typeface="Bitter Bold"/>
              </a:rPr>
              <a:t>Arna theagasc thar 1, 2 nó 3 bliana</a:t>
            </a:r>
            <a:endParaRPr b="0" lang="en-US" sz="2400" spc="-1" strike="noStrike">
              <a:solidFill>
                <a:srgbClr val="12175d"/>
              </a:solidFill>
              <a:latin typeface="Cambria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400" spc="-1" strike="noStrike">
                <a:solidFill>
                  <a:srgbClr val="12175d"/>
                </a:solidFill>
                <a:latin typeface="Bitter Bold"/>
              </a:rPr>
              <a:t>Is féidir oiread le 4 ghearrchúrsa a chur san áireamh sa teastas</a:t>
            </a:r>
            <a:endParaRPr b="0" lang="en-US" sz="24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   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pt-BR" sz="3200" spc="-1" strike="noStrike">
                <a:solidFill>
                  <a:srgbClr val="12175d"/>
                </a:solidFill>
                <a:latin typeface="Bitter Bold"/>
              </a:rPr>
              <a:t>Gearrchúrsa na Sínise agus </a:t>
            </a:r>
            <a:r>
              <a:rPr b="0" lang="pt-BR" sz="32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pt-BR" sz="32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pt-BR" sz="32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pt-BR" sz="32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pt-BR" sz="32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pt-BR" sz="3200" spc="-1" strike="noStrike">
                <a:solidFill>
                  <a:srgbClr val="12175d"/>
                </a:solidFill>
                <a:latin typeface="Bitter Bold"/>
              </a:rPr>
              <a:t>Chultúr na Síne </a:t>
            </a:r>
            <a:endParaRPr b="0" lang="en-US" sz="32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50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pic>
        <p:nvPicPr>
          <p:cNvPr id="505" name="Picture 6" descr="Tattoo Patterns Free Design Chinese Symbols 2011 Design 427x336 Pixel"/>
          <p:cNvPicPr/>
          <p:nvPr/>
        </p:nvPicPr>
        <p:blipFill>
          <a:blip r:embed="rId1"/>
          <a:stretch/>
        </p:blipFill>
        <p:spPr>
          <a:xfrm>
            <a:off x="4992840" y="1417680"/>
            <a:ext cx="417348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12175d"/>
                </a:solidFill>
                <a:latin typeface="Bitter Bold"/>
              </a:rPr>
              <a:t>An tSínis agus Cultúr na Síne</a:t>
            </a:r>
            <a:endParaRPr b="0" lang="en-US" sz="32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08" name="TextBox 2"/>
          <p:cNvSpPr/>
          <p:nvPr/>
        </p:nvSpPr>
        <p:spPr>
          <a:xfrm>
            <a:off x="3419640" y="1989000"/>
            <a:ext cx="5400360" cy="40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ts val="35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2175d"/>
                </a:solidFill>
                <a:latin typeface="Arial"/>
              </a:rPr>
              <a:t>Aidhm:</a:t>
            </a:r>
            <a:endParaRPr b="0" lang="en-US" sz="32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ts val="35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2175d"/>
                </a:solidFill>
                <a:latin typeface="Arial"/>
              </a:rPr>
              <a:t>Is é is aidhm don ghearrchúrsa seo cuidiú le scoláirí bunleibhéil líofachta atá socraithe don tSínis scríofa agus labhartha a bhaint amach, a bhfeasacht chultúrtha agus idirchultúrtha a fhorbairt, agus  bealaí a fhoghlaim chun a ndul chun cinn i sealbhú na Sínise a phleanáil agus a mheas.</a:t>
            </a:r>
            <a:endParaRPr b="0" lang="en-US" sz="2000" spc="-1" strike="noStrike">
              <a:solidFill>
                <a:srgbClr val="12175d"/>
              </a:solidFill>
              <a:latin typeface="Cambria"/>
            </a:endParaRPr>
          </a:p>
        </p:txBody>
      </p:sp>
      <p:pic>
        <p:nvPicPr>
          <p:cNvPr id="509" name="Picture 8" descr="http://photoalbum.davison.ca/ZhenPhotoDiary/Images/dragon2.jpg"/>
          <p:cNvPicPr/>
          <p:nvPr/>
        </p:nvPicPr>
        <p:blipFill>
          <a:blip r:embed="rId1"/>
          <a:stretch/>
        </p:blipFill>
        <p:spPr>
          <a:xfrm>
            <a:off x="-25560" y="2708280"/>
            <a:ext cx="3306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                               </a:t>
            </a:r>
            <a:br>
              <a:rPr sz="3700"/>
            </a:b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Léargas ar an gCúrsa</a:t>
            </a:r>
            <a:endParaRPr b="0" lang="en-US" sz="3700" spc="-1" strike="noStrike">
              <a:solidFill>
                <a:srgbClr val="12175d"/>
              </a:solidFill>
              <a:latin typeface="Calibri"/>
            </a:endParaRPr>
          </a:p>
        </p:txBody>
      </p:sp>
      <p:pic>
        <p:nvPicPr>
          <p:cNvPr id="511" name="Content Placeholder 19467" descr=""/>
          <p:cNvPicPr/>
          <p:nvPr/>
        </p:nvPicPr>
        <p:blipFill>
          <a:blip r:embed="rId1"/>
          <a:stretch/>
        </p:blipFill>
        <p:spPr>
          <a:xfrm>
            <a:off x="3498840" y="1579680"/>
            <a:ext cx="5346720" cy="394956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1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15" name="AutoShape 8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16" name="AutoShape 10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17" name="AutoShape 12"/>
          <p:cNvSpPr/>
          <p:nvPr/>
        </p:nvSpPr>
        <p:spPr>
          <a:xfrm>
            <a:off x="917640" y="617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pic>
        <p:nvPicPr>
          <p:cNvPr id="518" name="Picture 14" descr="Learning Chinese Writing Symbols, stroke order"/>
          <p:cNvPicPr/>
          <p:nvPr/>
        </p:nvPicPr>
        <p:blipFill>
          <a:blip r:embed="rId2"/>
          <a:stretch/>
        </p:blipFill>
        <p:spPr>
          <a:xfrm>
            <a:off x="0" y="2060640"/>
            <a:ext cx="36147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1908000" y="1484280"/>
          <a:ext cx="6096240" cy="3749760"/>
        </p:xfrm>
        <a:graphic>
          <a:graphicData uri="http://schemas.openxmlformats.org/drawingml/2006/table">
            <a:tbl>
              <a:tblPr/>
              <a:tblGrid>
                <a:gridCol w="2183040"/>
                <a:gridCol w="3913200"/>
              </a:tblGrid>
              <a:tr h="37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raith 1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Mé féin, mo theaghlach agus mo chairde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Topaicí: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Beannú pearsanta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Eolas pearsanta a mhalartú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uimeanna agus sainchaithimh aimsire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Eolas a roinnt ar shaol an bhaile agus an teaghlaigh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"/>
          <p:cNvGraphicFramePr/>
          <p:nvPr/>
        </p:nvGraphicFramePr>
        <p:xfrm>
          <a:off x="1523880" y="1397160"/>
          <a:ext cx="6096240" cy="3749400"/>
        </p:xfrm>
        <a:graphic>
          <a:graphicData uri="http://schemas.openxmlformats.org/drawingml/2006/table">
            <a:tbl>
              <a:tblPr/>
              <a:tblGrid>
                <a:gridCol w="2184480"/>
                <a:gridCol w="3911760"/>
              </a:tblGrid>
              <a:tr h="37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raith 2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muigh agus ar do chois in áiteanna poiblí</a:t>
                      </a: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  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Topaicí: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Gnéithe áiteanna sa tSín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g taisteal thart sa tSín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Cultúr a léiriú trí cheiliúradh 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g dul a shiopadóireacht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g dul amach le haghaidh béile Síneach 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"/>
          <p:cNvGraphicFramePr/>
          <p:nvPr/>
        </p:nvGraphicFramePr>
        <p:xfrm>
          <a:off x="1523880" y="1397160"/>
          <a:ext cx="6096240" cy="3327120"/>
        </p:xfrm>
        <a:graphic>
          <a:graphicData uri="http://schemas.openxmlformats.org/drawingml/2006/table">
            <a:tbl>
              <a:tblPr/>
              <a:tblGrid>
                <a:gridCol w="2184480"/>
                <a:gridCol w="3911760"/>
              </a:tblGrid>
              <a:tr h="33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raith 3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Oideachas agus Scoil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Topaicí: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g dul ar scoil sa tSín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Gnáthlá scoile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m taobh amuigh den seomra ranga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Teangacha a fhoghlaim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1523880" y="1397160"/>
          <a:ext cx="6096240" cy="3184200"/>
        </p:xfrm>
        <a:graphic>
          <a:graphicData uri="http://schemas.openxmlformats.org/drawingml/2006/table">
            <a:tbl>
              <a:tblPr/>
              <a:tblGrid>
                <a:gridCol w="2040120"/>
                <a:gridCol w="4056120"/>
              </a:tblGrid>
              <a:tr h="31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raith 4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n tSínis agus saoránaigh óga dhomhanda 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Topaicí: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Domhan na Sínise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Ceisteanna sna meáin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ínigh ar fud an domhain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ireagáin agus nuálaíochtaí Síneacha 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ounded Rectangle 10"/>
          <p:cNvSpPr/>
          <p:nvPr/>
        </p:nvSpPr>
        <p:spPr>
          <a:xfrm>
            <a:off x="1547640" y="3524400"/>
            <a:ext cx="5977080" cy="144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24" name="Rounded Rectangle 9"/>
          <p:cNvSpPr/>
          <p:nvPr/>
        </p:nvSpPr>
        <p:spPr>
          <a:xfrm>
            <a:off x="1547640" y="1717560"/>
            <a:ext cx="59770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25" name="Title 1"/>
          <p:cNvSpPr/>
          <p:nvPr/>
        </p:nvSpPr>
        <p:spPr>
          <a:xfrm>
            <a:off x="395280" y="452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                              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Measúnú</a:t>
            </a:r>
            <a:endParaRPr b="0" lang="en-US" sz="37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26" name="TextBox 1"/>
          <p:cNvSpPr/>
          <p:nvPr/>
        </p:nvSpPr>
        <p:spPr>
          <a:xfrm>
            <a:off x="2987640" y="2025720"/>
            <a:ext cx="453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2000" spc="-1" strike="noStrike">
                <a:solidFill>
                  <a:srgbClr val="12175d"/>
                </a:solidFill>
                <a:latin typeface="Bitter Bold"/>
              </a:rPr>
              <a:t>Taifead ar fhoghlaim teanga</a:t>
            </a:r>
            <a:endParaRPr b="0" lang="en-US" sz="20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2175d"/>
                </a:solidFill>
                <a:latin typeface="Bitter Bold"/>
              </a:rPr>
              <a:t>          </a:t>
            </a:r>
            <a:r>
              <a:rPr b="0" lang="pt-BR" sz="2000" spc="-1" strike="noStrike">
                <a:solidFill>
                  <a:srgbClr val="12175d"/>
                </a:solidFill>
                <a:latin typeface="Bitter Bold"/>
              </a:rPr>
              <a:t>Measúnú ar cheithre scil</a:t>
            </a:r>
            <a:endParaRPr b="0" lang="en-US" sz="20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pt-BR" sz="20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pt-BR" sz="2000" spc="-1" strike="noStrike">
                <a:solidFill>
                  <a:srgbClr val="12175d"/>
                </a:solidFill>
                <a:latin typeface="Bitter Bold"/>
              </a:rPr>
              <a:t> </a:t>
            </a:r>
            <a:r>
              <a:rPr b="0" lang="pt-BR" sz="2000" spc="-1" strike="noStrike">
                <a:solidFill>
                  <a:srgbClr val="12175d"/>
                </a:solidFill>
                <a:latin typeface="Bitter Bold"/>
              </a:rPr>
              <a:t>na teanga</a:t>
            </a:r>
            <a:endParaRPr b="0" lang="en-US" sz="20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2175d"/>
              </a:solidFill>
              <a:latin typeface="Cambria"/>
            </a:endParaRPr>
          </a:p>
        </p:txBody>
      </p:sp>
      <p:pic>
        <p:nvPicPr>
          <p:cNvPr id="527" name="Picture 2" descr="https://encrypted-tbn0.gstatic.com/images?q=tbn:ANd9GcS1cfYjXXxLKKeGxqbH-4yTc11T2NU_-8cOGOgrkMZI1goRXNrN"/>
          <p:cNvPicPr/>
          <p:nvPr/>
        </p:nvPicPr>
        <p:blipFill>
          <a:blip r:embed="rId1"/>
          <a:stretch/>
        </p:blipFill>
        <p:spPr>
          <a:xfrm>
            <a:off x="1187280" y="1717560"/>
            <a:ext cx="2667240" cy="13240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6" descr="http://regalinstitute.in/wp-content/uploads/2011/01/language-skills4.gif"/>
          <p:cNvPicPr/>
          <p:nvPr/>
        </p:nvPicPr>
        <p:blipFill>
          <a:blip r:embed="rId2"/>
          <a:srcRect l="22967" t="0" r="12964" b="0"/>
          <a:stretch/>
        </p:blipFill>
        <p:spPr>
          <a:xfrm>
            <a:off x="1187280" y="3524400"/>
            <a:ext cx="28083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3T10:10:40Z</dcterms:created>
  <dc:creator>John Halbert</dc:creator>
  <dc:description/>
  <dc:language>en-US</dc:language>
  <cp:lastModifiedBy>Fred Boss</cp:lastModifiedBy>
  <dcterms:modified xsi:type="dcterms:W3CDTF">2014-01-16T12:54:22Z</dcterms:modified>
  <cp:revision>16</cp:revision>
  <dc:subject/>
  <dc:title>PE short course consultation</dc:title>
</cp:coreProperties>
</file>