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14B8-B7F9-426A-B019-1A6A4BA709E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2463-2DF5-41CA-9B73-1A353A00D07A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a mhaith linn a chloisteáil céard a shíleann tú faoi na smaointe seo i dtaobh ghearrchúrsa an OS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D79-D3B6-4BBC-81E2-45B0C0558166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4E1-DBCA-4A9D-B41D-348065405DB9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í aidhm an ghearrchúrsa san OSPS an spás agus an t-am a chruthú do scoláirí chun foghlaim fúthu féin agus faoi dhaoine eile, chun féinmheas dearfach a fhorbairt agus chun foghlaim conas cinntí sláintiúla eolasacha a dhéanamh i dtaobh a sláinte agus a bhfolláine féin agus cuid daoine ei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rún leis freisin tacú le scoláirí agus iad ag foghlaim conas caidrimh shláintiúla a fhorbairt agus a choimeá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0CFB-AA12-4815-8A17-AA0A7DE30932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á ceithre sraitheanna sa ghearrchúrsa seo agus tabharfaidh an chéad chúpla sleamhnán eile níos mó sonraí ar a mbeidh á fhoghlaim agat i ngach ceann díob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569D-1F78-4A0A-B67D-AF1C5FB59F4E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1, beidh tú ag foghlaim fút féin agus faoi dhaoine eile, faoi céard atá tábhachtach agat, an chaoi a n-imríonn na roghanna a dhéanann tú tionchar chun leasa nó aimhleasa ort. Foghlaimeoidh tú faoi chinntí maithe a dhéanamh duit féin a leiríonn meas freisin do chearta daoine e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AF6-99EA-421F-84AA-E563F6DA641F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2, beidh tú ag foghlaim conas freagracht a ghlacadh i leith do shláinte agus d’fholláine féin, go háirithe mar a bhaineann sé le húsáid substaint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tú ag foghlaim faoi ghnéasacht agus sláinte ghnéis agus an chaoi chun caitheamh lena chéile le me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308C-BDF2-47DC-AE29-737C560A8218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Díríonn Sraith 3 go hiomlán ar chaidrimh dhearfacha a fhorbairt agus a choimeá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deiseanna agat na fadhbanna a thagann aníos i dtaca le bulaíocht  a scrúdú ó pheirspictíochtaí difriúla lena n-áirítear ceann an bhulaí, an té atá thíos leis an mbulaíocht agus ról an fhéachadó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83D8-11BB-4AFE-843D-015A4AB82DD4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r deireadh, sa tsraith dheireanach, foghlaimeoidh tú faoi shláinte mheabhrach dhearfach – céard í, an chaoi chun í a fhorbairt agus a choimeád duit féin agus do dhaoine ei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reisin faoin drochshláinte mheabhrach agus an chaoi a bhféadfá cabhrú leat féin agus le daoine eile má bhíonn ort déileáil amach anseo le drochshlái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3BA2-C19B-4F77-A31A-65CDAE8F9A3A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rith an ghearrchúrsa san OSPS, spreagfar thú chun dialann a choimeád de d’fhoghlaim phearsanta.  Beidh an dialann seo príobháideach agat féin agus ní úsáidfear í mar chuid den mheasún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únú san OS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us tú ag foghlaim sna ceithre sraitheanna, beidh deiseanna agat chun an méid atá foghlamtha agat a thaispeáint nuair a dhearann tú póstaeir, bileoga, feachtais srl. Nuair a chuireann tú na tascanna seo díot, iarrfar ort machnamh ar an méid a d’fhoghlaim tú faoin tsláinte agus faoin bhfolláine agus tú ag críochnú an tai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 deireadh an ghearrchúrsa seo, iarrfar ort ceithre shampla de phointí tábhachtacha a roghnú agus do chuid machnaimh orthu sin a thaispeánann foghlaim shuntasach duit in ar a laghad trí cinn de na ceithre sraitheann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5F38-88B9-4055-B408-F88C3267ED12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D6A-50A0-4C48-B7C2-33F1D2A1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2B0-5292-49A2-AC58-5C848EC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7E21A-42F4-42F9-BC32-750740A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C718D-2CA8-434D-938B-C9869CDD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76586-0305-4EA6-A500-CFDE7AA0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28F81-97DB-4722-B5BB-21E780E5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728B6-F452-4830-8695-80544A5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7A017-8E80-4249-BDD7-244911B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42FAB-FE8B-43A0-ADB3-8E2107F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E90E9-DAC7-4134-A36B-77C22213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8F63B-FFED-43C9-A708-DE2E5944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B3E05-4E76-4829-9E7B-625C383F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C64-07CC-401E-9B80-BA8FD2CF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1C394-EA45-4578-AE25-B4DDC3D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6656F-1695-4DD7-BDA2-A7EB4F6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0BA03-1530-4F40-8C21-66B1D25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9E7AC-FC14-4E60-981B-5FBED7E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1AE0B-D48B-4BF2-B72F-A3B742A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859A6-D16F-49E3-9186-28D48BE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2D922-A76F-4D57-AC7B-30D3FEF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8F19-05B4-42C6-8B4F-DB3D9BF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EE7D8-2720-4E38-841F-FB4B447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CC88A-6E1F-43FE-8691-3D2B07E1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226-E7BE-4002-BE8E-6CB11CBE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3C29-0FD9-4263-9554-CC2D6B62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BC452-B0A0-4657-B36D-FFA9EF50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14FB-3E69-4280-98D5-3E6E18D0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C45EA-389C-41D8-9176-7BFC603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1980C-8DAB-4599-9E91-7C686901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6395-9E32-45B0-A74F-1C694362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AA6E8-5C69-4B94-989A-399886B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A6838-AD97-4804-9FA7-E309749D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8C48E-7D7D-4492-AFFC-EC452C0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FF361-33B9-4136-8B70-FCBC5B7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746-8A29-4132-91B4-6258D928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596C6-B4F5-4462-8910-D83ABF6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9930-86FA-481D-9EB9-A288DA30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75303-3E8D-474C-AD3E-ED38DF93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748AB-3FF8-422C-9218-BC906B86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1552D-DE3B-46FC-B886-D2E7651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BE7EC-BA99-4749-8DEB-CADCE3BB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10E84-1037-43FB-A707-99C0980B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7C230-8F5B-497F-91EF-A1A2B01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0773B-7E66-419B-A3BC-55C51FA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E8A1D-73BB-4946-8BC7-4F412DE3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948-33C0-44E3-B5BF-8A509317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8DB2-1A50-4B7F-888F-2B39041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B5667-933C-48DD-88EE-615E322E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45E79-7737-40D4-B7E6-FB6B031B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347CD-56BF-4C95-BD7C-5C4475A3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B14ED-ACA8-43E5-A5D8-1B06E864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540-078E-4C2F-A9A1-8526255F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2DE0-BEFB-4974-9F29-34966D5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32EA-E4B5-4277-B4BB-0C35EA1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50EB-7491-4EB6-9651-29C17A0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287F-3EA2-4529-B25E-C9FB9BFB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429-4733-498A-9E02-716D1122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79C-C675-46D7-9285-29F39F67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2C35-7E21-4AC2-BE32-6A56831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B66C-EDB4-4822-A2FE-2A81C9E1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EAA-9DF8-4798-9EA0-E1990BD6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1EB4-E19F-42AA-A8EB-C63B6C0D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871E-2057-4C48-B72D-F64E2083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1606-7E18-42C9-BC55-16B5F5D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71B8-361E-475B-9DF5-AB028DB8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0ADD-481C-48F4-AE95-9E1AC110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077F-1AF4-4170-B874-26FCE71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CC1-41BB-46B8-A071-4484725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EF62-5EC7-4393-81AE-06E07F7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7742-67AD-4A7B-AD6C-4E1CB178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1234-6DF4-40A8-8654-E53FFD1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3F6E-F76C-4B75-9D6A-0E2222C7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D321-C29A-430F-858F-534458FA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E989-B9A2-4CE0-9AB1-2D1F819E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AF2B-F51F-4BC3-B580-BEB8B8C3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3766-322F-4836-A498-EA4A5060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E55E-7A5C-4BDF-B9FC-D122A62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8886-1CEF-44A7-8B37-7323D679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347-D6A7-4E3E-B693-A8B917E3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EE77-5B5A-4492-B224-3266BB25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B4A0-B42B-4A10-9DA6-6A29E0AA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EDC8-41F6-44C8-8C32-EBE732D4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E93E-02FF-4DF9-87EE-1347C4FD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F828-1FBF-481C-A69A-16831E02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CD5E-A35A-461B-B4BF-D91C6B2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10F2-AF53-417A-8BF1-D7D2E193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EF82-AFDD-4EFD-8720-6C7D3981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BDC3-5C2F-43B2-B232-7325F553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3388-0040-4FAF-AFE4-096C4A45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CD1-DD92-4B51-8492-6EAEA554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87B0-24A1-4E5D-87DB-280DB761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E334-CFF9-4C8E-8152-A4498F99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04CD-61EA-46AA-9A62-C0176C7D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A948-8CE3-45CC-A4B8-B051A49C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80AD-909F-4676-9796-8A6278E2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0AF0-2669-4525-B9D5-F486612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536E-B15F-4A5F-BCFD-BD2BC08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AB3D-A093-4E2E-A4A4-8BC3B14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2C4A1-0358-4FFB-B419-A5E9226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E722D-C9E1-4360-B966-CDFBE23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0DB-A759-4E83-9B67-767A95D6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76B7-3F94-46C4-A307-1EA3E4CD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0178-18BD-4DD2-9FF9-E84E8636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F8D3-1206-497B-B352-D326280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7D38-D93A-454E-AA00-30888998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37F70-AD6C-4479-AFC8-1BDFBDC5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1901-494E-48C7-9FB2-9EE70B57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2E7C6-13CA-491E-B45E-D09ABC5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400AC-BB07-4FBA-AF2D-07870E1D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8330-5DC2-408D-93D1-1F64245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E77F-5488-442E-9E20-92AC6029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EE3-A7CD-4286-850B-E81BF1A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041C-1335-4B5E-8EBA-2F03067B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72C2-7323-4E8D-B286-75E40018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F18C-F390-4949-AAC9-F63EC912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CC723-EE44-4FFD-918E-5B6896EE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8B60-6118-423E-AD47-28779E4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80A6-90AF-4729-9880-E337A7F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1342-561D-41BD-8AE7-C07D06C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960A2-AB00-4A80-B326-0338859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8A2D-9BA5-4554-AB59-29323993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6AF56-25F7-4998-9D73-9B25DB7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9A7-17E2-4D43-B9A9-035476B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38E3-9B97-4CD4-8357-A21C5E4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1019E-05E8-445C-8A0A-BB04552F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6D561-24F6-419F-B2CF-802481C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185A-8378-443F-B160-40F9F314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068C4-C704-4673-8B4B-24CEFBE4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0B89-66D0-46C0-B980-58BEABB5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F792-2963-4534-9EE2-1F87FCDA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591B4-B98E-4E56-B5AA-83A2EFE1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9553-5E7D-4B02-B00F-B3D169F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ACAB-D297-4014-9BBE-203C64A1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A57-6B89-4854-BABF-A3A373D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D05CE-094E-4AA0-AD62-D90DE67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6B882-F34C-4EC2-9B34-69D33D6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B632-E94D-4C62-B2D6-ABD3C2E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3954A-978C-4EE3-952D-3B0DA61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13B7F-CC73-4140-B9FA-99FEA47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F791-DE1D-400D-B9E7-CA1F58A7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F13A6-0DB9-4754-A084-54AB560F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3BE03-A25A-488F-B63B-CDC6FF99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C4A35-CADC-442D-A23B-DF61330A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40FEA-9CD4-487C-9A52-CF93B4A4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F17E-883A-4A29-9B44-5C5CE846F5DF}" type="slidenum">
              <a:rPr b="0" lang="en-GB" sz="1600" spc="-1" strike="noStrike">
                <a:solidFill>
                  <a:srgbClr val="8a8b9c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B30-1F73-455E-9A8D-657CDB516C8F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182-8321-426F-BD30-7EDD4D537A23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F68-1133-4C4E-BCCE-96D46CE2135E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8BF6-E1D7-4FDC-A05F-F538AAACF11F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FE05-38A3-4A1D-9D58-B35EE5936C34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29B-72EC-4B7C-A406-2C3301B9CC8D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042B-BC06-4567-8DD3-6318D4EDB31E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5322-3A12-41E7-9434-8A1A0C8F7598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F41-C20F-4C49-A8EC-656ABAC96C5B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5192-BE72-4FB6-8CFB-E7C94DA25261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87FE-5761-4F06-B98B-4F99A3C441D3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1796760"/>
            <a:ext cx="3887640" cy="28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3200" spc="-1" strike="noStrike">
                <a:solidFill>
                  <a:srgbClr val="12175d"/>
                </a:solidFill>
                <a:latin typeface="Bitter Bold"/>
              </a:rPr>
              <a:t>Comhairliúchán ar an nGearrchúrsa don OSPS</a:t>
            </a:r>
            <a:endParaRPr b="0" lang="en-US" sz="3200" spc="-1" strike="noStrike">
              <a:solidFill>
                <a:srgbClr val="12175d"/>
              </a:solidFill>
              <a:latin typeface="Calibri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rcRect l="20397" t="21762" r="19930" b="8012"/>
          <a:stretch/>
        </p:blipFill>
        <p:spPr>
          <a:xfrm>
            <a:off x="4006800" y="258840"/>
            <a:ext cx="426240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1762200" y="1266840"/>
            <a:ext cx="561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54320" y="274320"/>
            <a:ext cx="55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Gearrchúrsa an OSPS</a:t>
            </a:r>
            <a:endParaRPr b="0" lang="en-US" sz="37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94920" y="1701720"/>
            <a:ext cx="475308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1040" indent="-40104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Tuairim is 100 uair foghlam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01040" indent="-40104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Arna theagasc thar 1, 2 nó 3 blian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01040" indent="-40104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Arna shonrú ag leibhéal comónt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01040" indent="-40104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Is féidir oiread le 4 ghearrchúrsa a chur san áireamh sa teastas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03" name="Picture 10" descr=""/>
          <p:cNvPicPr/>
          <p:nvPr/>
        </p:nvPicPr>
        <p:blipFill>
          <a:blip r:embed="rId2"/>
          <a:stretch/>
        </p:blipFill>
        <p:spPr>
          <a:xfrm>
            <a:off x="4767120" y="1457280"/>
            <a:ext cx="44928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39680" y="274320"/>
            <a:ext cx="584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Gearrchúrsa an OSPS</a:t>
            </a:r>
            <a:endParaRPr b="0" lang="en-US" sz="37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3432240" y="1989000"/>
            <a:ext cx="525456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Aidhm</a:t>
            </a: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ts val="3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2175d"/>
                </a:solidFill>
                <a:latin typeface="Bitter Bold"/>
              </a:rPr>
              <a:t>Is í aidhm an ghearrchúrsa ar OSPS  dearcadh dearfach a fhorbairt sna scoláirí ina leith féin agus a bhfolláine fhisiceach, shóisialta, mhothúchánach agus spioradálta.  Is rún leis freisin cumas daoine óga a thógáil chun caidrimh shláintiúla a fhorbairt agus a choimeád. 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2"/>
          <a:stretch/>
        </p:blipFill>
        <p:spPr>
          <a:xfrm>
            <a:off x="0" y="1989000"/>
            <a:ext cx="34322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                 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Léargas ar an gCúrsa</a:t>
            </a:r>
            <a:endParaRPr b="0" lang="en-US" sz="3700" spc="-1" strike="noStrike">
              <a:solidFill>
                <a:srgbClr val="12175d"/>
              </a:solidFill>
              <a:latin typeface="Calibri"/>
            </a:endParaRPr>
          </a:p>
        </p:txBody>
      </p:sp>
      <p:pic>
        <p:nvPicPr>
          <p:cNvPr id="509" name="Content Placeholder 19467" descr=""/>
          <p:cNvPicPr/>
          <p:nvPr/>
        </p:nvPicPr>
        <p:blipFill>
          <a:blip r:embed="rId2"/>
          <a:stretch/>
        </p:blipFill>
        <p:spPr>
          <a:xfrm>
            <a:off x="3498840" y="1146240"/>
            <a:ext cx="4846680" cy="4949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" descr=""/>
          <p:cNvPicPr/>
          <p:nvPr/>
        </p:nvPicPr>
        <p:blipFill>
          <a:blip r:embed="rId3"/>
          <a:stretch/>
        </p:blipFill>
        <p:spPr>
          <a:xfrm>
            <a:off x="457200" y="2197080"/>
            <a:ext cx="3044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1523880" y="1773360"/>
          <a:ext cx="6096240" cy="338292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1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é mé?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n chaoi a bhfeicim mé féin agus daoine eil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us mé i mo dhéagóir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Féin-bhainistíocht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o chearta agus cearta daoine eil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1523880" y="1773360"/>
          <a:ext cx="6096240" cy="301788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2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ire a thabhairt dom féin agus do dhaoine eil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Bheith follái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Úsáid substaintí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néasacht agus sláinte ghnéis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umarsáid mheasúil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1523880" y="1773360"/>
          <a:ext cx="6096240" cy="345600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3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 gcomhar le chéil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ara bheith agat agus bheith i do char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peictream an chaidrimh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aidrimh speisialt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Frithbhulaíocht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1523880" y="1773360"/>
          <a:ext cx="6096240" cy="411480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4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láinte agus folláine mheabhrach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eabhairshláinte dhearfach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eabhairshláinte /droch-mheabhairshláinte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éileáil le drochlaethant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éala agus cailleadh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ounded Rectangle 10"/>
          <p:cNvSpPr/>
          <p:nvPr/>
        </p:nvSpPr>
        <p:spPr>
          <a:xfrm>
            <a:off x="1547640" y="3524400"/>
            <a:ext cx="439272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6" name="Rounded Rectangle 9"/>
          <p:cNvSpPr/>
          <p:nvPr/>
        </p:nvSpPr>
        <p:spPr>
          <a:xfrm>
            <a:off x="1547640" y="1701720"/>
            <a:ext cx="439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395280" y="45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Measúnú</a:t>
            </a:r>
            <a:endParaRPr b="0" lang="en-US" sz="37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8" name="TextBox 1"/>
          <p:cNvSpPr/>
          <p:nvPr/>
        </p:nvSpPr>
        <p:spPr>
          <a:xfrm>
            <a:off x="2916360" y="2025720"/>
            <a:ext cx="4608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Tasc</a:t>
            </a: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Athmhachnamh</a:t>
            </a: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2"/>
          <a:stretch/>
        </p:blipFill>
        <p:spPr>
          <a:xfrm>
            <a:off x="1547640" y="1722600"/>
            <a:ext cx="1731960" cy="12934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3"/>
          <a:stretch/>
        </p:blipFill>
        <p:spPr>
          <a:xfrm>
            <a:off x="1782720" y="3668760"/>
            <a:ext cx="9860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6:19:11Z</dcterms:created>
  <dc:creator>John Halbert</dc:creator>
  <dc:description/>
  <dc:language>en-US</dc:language>
  <cp:lastModifiedBy>Fred Boss</cp:lastModifiedBy>
  <dcterms:modified xsi:type="dcterms:W3CDTF">2014-01-16T12:53:28Z</dcterms:modified>
  <cp:revision>6</cp:revision>
  <dc:subject/>
  <dc:title>SPHE short course consultation</dc:title>
</cp:coreProperties>
</file>