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4.png" ContentType="image/png"/>
  <Override PartName="/ppt/media/image9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1d51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C9016-C67E-4922-A13D-674D7EC04AF7}" type="slidenum"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Iarrfar ort anois plé a dhéanamh i do ghrúpa ar céard a shíleann tú faoi na pleananna se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2E493-4E77-4F4A-9836-9E4CD7BB1050}" type="slidenum">
              <a:rPr b="0" lang="en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Is é is aidhm don ghearrchúrsa don Ríomhchlárú agus don Chódú a chinntiú go bhfaigheann gach scoláire buntuiscint ar conas a oibríonn bogearraí agus ríomhairí agus a bhaineann siad leis an saol laethú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Forbraítear fadhbréiteach agus scileanna smaointeoireachta ríomhaireachtúla tríd an obair a dhéanann na scoláirí sa ghearrchúrsa seo agus iad ag tógáil agus ag cruthú Tionscadail bhogearraí ag úsáid a gcuid smaointe agus samhlaíochta féi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Beidh ar na scoláirí obair a dhéanamh ina n-aonar le tabhairt faoi seo agus mar bhall d’fhoireann chun fadhbanna a cheapadh go loighciúil  le linn dóibh bheith ag dearadh, ag scríobh agus ag tástáil códaithe. Spreagfar scoláirí chun cluichí, aipeanna, beochana agus suíomhanna Gréasáin a fhorbairt agus, trí na gníomhaíochtaí foghlama sin, chun foghlaim faoin ríomheolaíoch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7A384-3246-4797-9CFF-1A75490E72D6}" type="slidenum">
              <a:rPr b="0" lang="en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á an gearrchúrsa comhdhéanta de cheithre shraith. Díríonn gach sraith ar théama difriúil agus cabhróidh an chéad chúpla sleamhnán eile leat beagán níos mó tuisceana a bheith agat ar na téamaí difriúla seo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B2B1C-B6C3-45F9-9421-C9B4724DE63A}" type="slidenum">
              <a:rPr b="0" lang="en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I Sraith a haon, cuirfidh do mhúinteoir tús le hábhar na ríomheolaíochta agus an obair atá bainte léi trí phlé ranga ar thábhacht na ríomhairí sa tsochaí chomhaimseartha agus i do shaol féi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Faoi dheireadh na sraithe, beidh códú agus cláir bhunúsacha forbartha agaibh agus  déanfaidh sibh roinnt bunchódaithe agus ríomhchláir a fhorbairt, a thástáil agus a mheas. Tabharfaidh sé sin deis daoibh freisin bheith ag obair i bhfoireann bheag nuair a bheidh oraibh bogearra a dhearadh agus a chur i bhfeidh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Mar shampla, b’fhéidir go ndéanfá léiriú ar thábhacht na ríomhairí sa domhan lenár lin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Sin nó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B’fhéidir go scríobhfá clár beag chun a thaispeáint faoi mar a fhorbraíonn smaoineamh tosaigh ina bhogearra feidhmiúi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0D63D-954A-40E6-BF49-36E8A619A9F1}" type="slidenum">
              <a:rPr b="0" lang="en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I sraith 2,  foghlaimeoidh tú faoi mheicníocht chúlra an idirlín, conas a dhéanann ríomhairí cumarsáid agus comhoibriú le chéile agus déanfaidh tú do shuíomh Gréasáin féin a thógái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Foghlaimeoidh tú freisin  conas a úsáideann an ríomhaire 1nna agus 0nna simplí chun sonraí a léiriú ar scáileán a thig leat a choimeá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A1B03-02B9-4A68-9440-89B6E0A10744}" type="slidenum">
              <a:rPr b="0" lang="en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Sa tSraith seo, tumfaidh tú níos doimhne isteach i réimse na bhfeidhmeanna ríomhchláraithe atá ar fáil duit chun ríomhchláir níos coimpléascaí a thógái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Gheobhaidh tú deis freisin chun códú/ríomhchláir a chéile a anailísiú agus cabhrú lena chéile chun iad a fheabhs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B6AED-44BD-4D44-A648-06CB93B31289}" type="slidenum">
              <a:rPr b="0" lang="en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Sa tsraith dheireanach seo, aimseoidh tú  fíorfhadhb ón saol agus tiocfaidh tú aníos le réitigh fhéideartha ag úsáid an mhéid ata foghlamtha agat go dtí seo faoi ríomhchlárú agus faoi chódúchá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Ag obair i ngrúpa beag duit roghnóidh tú do thionscadal deireanach, déanfaidh tú smaointe a ransú agus do réiteach a dhearadh, a chur i bhfeidhm agus a thástái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Beidh an obair seo ann do do mheasúnú deireanac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0B022-F75C-485D-A529-142AAD60D938}" type="slidenum">
              <a:rPr b="0" lang="en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á dhá phíosa measúnaithe ann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n chéad chuid den mheasúnú, i Sraitheanna 1, 2 agus 3 beidh tú ag obair leat féin agus mar bhall foirne.  Baineann an obair seo le tascanna ríomhchláraithe, suíomh Gréasáin feidhmiúil a chruthú agus ardtascanna ríomhchláraithe. Gach uair, cláróidh tú do chuid oibre agus do chódúchán ag úsáid téacs, físe, grianghraf agus machnamh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n dara cuid den mheasúnú, i Sraith 4, roghnóidh tú topaic/dúshlán sa ríomheolaíocht a bhfuil suim agat ann agus déanfaidh tú taighde agus forbairt ar an tionscadal bogearra seo mar bhall d’fhoireann bheag agus é a chur isteach mar mheasúnú deirid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45CB3-9F84-46FA-B98B-1F88A3CA1595}" type="slidenum">
              <a:rPr b="0" lang="en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4EFC0-8C62-4D9F-9B52-6F6683CB3F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9C8EB-325E-477A-98FA-0AF3E3DF57F7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239CC-19DF-4EEB-800C-7BBC32CA88A2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B1846-97BD-4B0F-AEF5-45B1A2DB5887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83739-1301-4B04-B51A-960F9C657960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99CE8-6F23-4F87-83DA-E10B6D6E8C3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DB5E5-1E27-489C-962E-8880A09D62F6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AF141-B1C7-409E-A3BD-F12DC13FBDF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07235-3B3A-4DD2-8FFA-AB983788653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614E5-6D46-4D3A-98F9-50DDCC07EA29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760C0-00BD-4FFF-8889-E4C18A858945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E9D2396-EED1-4251-8882-1ABB9FB8F5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D59D2-7D6B-4A88-B267-55D8681B98A9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A55A5A2-9877-4132-AC48-CF7EBEC52B0C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DEB7EE0-60F7-4914-A07F-E171F104E639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9A619E2-FBC8-44F5-B16D-51E9B6B91DBA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CD7B09F-CCE6-4C8A-8805-22CC3EC3B3BA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7C5D871-0525-4521-A764-D8B8675302C5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1C9985C-0BDF-4317-A83D-FC27E53CA800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28C3A23-BE5B-4D58-8258-5533E54B90CC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350FCB0-2B31-4A0B-A5C2-CF7A712CF8A5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E50C6F7-A766-4583-BCBB-CCA495820E61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92435CD-3793-4D3A-91D1-DEC2CDCE8A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31F59-9D59-4A65-BB0F-3163887864E8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6ABA351-5F71-4300-8FD6-921DC33555D6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55DB0B-F407-4BFC-86DF-6229A6A6B666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2B0B3D-A276-4868-8C19-A0CB081D6B7C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400069-0729-4E42-90C0-EBD7BAE71E9B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4647D3-7E46-4AD9-B763-22354B702CA4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04D698-AB87-48AF-82C2-AA8710F1E1B2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44DEB5-2243-4B18-BF3C-2EA205284C83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1DC818-6ACF-4559-BE51-46B74ACD8966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EC3D00-7874-440D-A0A1-99469DF463E9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50E89E-28B7-4EF3-9973-D13E0149EA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F1FF7A-4831-4BE9-8659-61F477F9DD22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13985D-CC3B-407F-8E6E-B31482836B73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CBF7E2-7FB7-4DAB-95E5-DF71D4217715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3EB818-539B-465C-AF60-B5A711690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C683D9-D27A-4BD1-9BB1-AA11628BA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36C9E9-F049-4BE1-B4DA-F9E55A5E5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883B19-5CF4-476B-8683-A30EEAB31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484392-3B77-4874-86E4-0BB878660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6FB4B7-0473-44C6-B3C0-820D2170E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B64E8A-3820-4EEA-A40C-8CFDF1E7C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2690AA-C099-40F3-BE04-A1F33FE5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A5640C-1FF4-448A-A42A-B5070AA65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1B61BE-19BD-4504-9AE3-B4B870BD2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F2392D-9604-4DD3-99A9-680E9878D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D43669-296E-4601-A114-02B1F5C66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D934C-A57F-4B0C-868C-03AC88BD7F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1C42E-AD63-4F76-80B9-D9FB316F1AF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75130-C487-4998-B82A-2524683EC48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0927B-CFA4-4E83-ACDD-831167230C9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95F05-1D76-42B6-B9AA-0A57E6408B4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D2B0A-5B8B-400A-942A-D5535B2BC7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591C2-B1E0-4A5A-810E-5112C5ECB84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BFD61-AEA2-41FF-A40E-5FB3DC89E30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FA122-ECA9-4B37-96D0-F5BD486131A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5A862-63CA-4A7E-B327-4A086DE9D9C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EDB24-9DFA-4E2D-B393-4C025144CAB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68F48-C107-45E5-949B-D8B3B860950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77A19-59BE-415C-BB08-3755DE4EA99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069DB-4D9D-4216-B4DB-9C7916195FB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B7A5-E326-40BA-9EA8-067EC396A13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BCC6-602D-491E-9767-D4ADAF448A7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0BAB-E1A7-4AB8-9134-03CC57771D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8137F-AC5F-4336-8E5E-AD3DE7FEF08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68CB-B0A0-4C26-BF0E-DD045913C73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59CD-5AEF-497B-833D-AD280ECA437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1B67-9017-45A9-8DEB-08DD76375E3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61E7-01F1-4564-9DA3-634C8CD6520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DBE2-3741-413F-BBFB-3D2A1D940E2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0545-4F74-47F8-80BE-E5193FEBDC7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0723-FA81-4E06-B5BB-DC634B55F2A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CB21-3ECC-4B3D-9DA1-45CEEF5D9C1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31B6-A216-4382-8509-251699EA60F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DC8828-0176-4406-A02C-1A9D56A437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E5311-C7FA-4174-A2AB-A14921DACA0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A82E00-8117-44D5-B08F-B261030B150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4B0EAE-240B-4E40-A835-7615ADC980E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F6A591-3E27-4D8C-B805-9FE4C035EE7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7597F2-9B38-4650-AA1C-653EBA31F01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F825C5-8A1E-4651-9D1D-C83D1E4C677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8C36BA-E9FA-49B5-AACE-06DF89072A8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01EDF4-F564-4671-A035-B22922C353E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D95C2D-061D-45F5-B924-438DBC9273C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9A49F6-BC9C-42CD-92E6-A40125451C9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9E4660-571C-4A6D-B3D0-F6A550977D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DD464-06CC-46D2-9419-58F9F19CD32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6867D0-38D2-4BF0-82CD-4567AA050B7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806C9-3489-421D-AAA5-E7AFDA9DA07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12883-D780-48E2-9991-12699759291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78779-C4C8-4CD8-BCF6-71ED9427D9F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66B7B-A605-4CB8-9690-6A366A24B3C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491C9-CAFB-4423-8F55-CC35F09D3CB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1B747-2799-43DB-B398-7BCF294E238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9CA05-1BDE-4FC6-91DE-F7FA03E1BA1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19590-6435-409D-95A8-7EF29DF36DA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9EC95-3E21-4816-9603-C4B2E06AF3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523CC-C431-4096-B901-D089B9D991C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61F76-1C1A-428B-9BA1-E0736F19EC7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7AA0B-BF67-4911-9B66-70E856676C2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4DBB0-F141-412F-9998-63389B2FA9C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1A2E48-C87D-4EA4-84AA-9ADA89E3280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871A53-D3D3-44AC-8241-1ADD62F5B9A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401FEE-8397-464D-B78C-EDC104DFB78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924943-9B01-435A-B4BD-F855D6AE277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43C4F9-F798-4A58-ABD1-323DE2D9110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8146E0-DAAE-4071-82F7-172BCC7BAA3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2037E3-52C2-43C7-8A1F-C91F2DF673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A28AB-A8CD-482D-8B5B-3BE578B7D99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C71176-8BC3-4B2E-9CE7-30CA8C12883B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A62B90-31CD-4D44-B157-B1D4698E47C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CE95FB-78CA-4A04-AF11-5A1FF3C7E83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7A2DB1-A8F3-44DA-B65B-FEC83FE67716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5D47F2-8FC2-42FD-A759-DAE36429942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C77EF8-7CA3-4600-8FC5-FD34A64CE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B85319-C1AF-4E77-9971-337BE1F30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AB2A18-0034-4DB6-98BC-1C98D818D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8F6CB3-B746-4A26-BCE2-B3629449E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5E39FD-0F58-4830-B1AC-2B8092334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CF833-57E2-4AF6-BEFC-1EC617BE1A46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F7EF31-2D9D-46F6-B9D2-F8B8400FF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8D73F6-00C5-4486-94D1-150195F16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5B1910-A48D-447D-97F6-A1D26D68F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A1D908-3151-47C7-8FA5-1809BDC10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3E7069-0452-4AEA-BAD2-57AE8C67B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8C971A-D2DE-4C97-8C01-EC2956609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B5553F-A367-46CF-BE6E-44E48E139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574D9B-A853-4CE1-91DE-C7133586CE35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D78AF-2583-41F7-9903-44D2DCFC8E3A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7B86F-4B28-4FA4-ACB5-7C30996FCF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1d51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0682280" y="5900760"/>
            <a:ext cx="1270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DBA66-D0B3-4858-954E-16436134F8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2" descr=""/>
          <p:cNvPicPr/>
          <p:nvPr/>
        </p:nvPicPr>
        <p:blipFill>
          <a:blip r:embed="rId3"/>
          <a:stretch/>
        </p:blipFill>
        <p:spPr>
          <a:xfrm>
            <a:off x="4789440" y="6291360"/>
            <a:ext cx="1994040" cy="5490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2" descr=""/>
          <p:cNvPicPr/>
          <p:nvPr/>
        </p:nvPicPr>
        <p:blipFill>
          <a:blip r:embed="rId4"/>
          <a:stretch/>
        </p:blipFill>
        <p:spPr>
          <a:xfrm>
            <a:off x="0" y="0"/>
            <a:ext cx="12192120" cy="684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"/>
          <p:cNvPicPr/>
          <p:nvPr/>
        </p:nvPicPr>
        <p:blipFill>
          <a:blip r:embed="rId3"/>
          <a:stretch/>
        </p:blipFill>
        <p:spPr>
          <a:xfrm>
            <a:off x="4789440" y="6291360"/>
            <a:ext cx="1994040" cy="5490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2" descr=""/>
          <p:cNvPicPr/>
          <p:nvPr/>
        </p:nvPicPr>
        <p:blipFill>
          <a:blip r:embed="rId4"/>
          <a:stretch/>
        </p:blipFill>
        <p:spPr>
          <a:xfrm>
            <a:off x="0" y="0"/>
            <a:ext cx="12192120" cy="684036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1d51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sldNum" idx="13"/>
          </p:nvPr>
        </p:nvSpPr>
        <p:spPr>
          <a:xfrm>
            <a:off x="10682280" y="5900760"/>
            <a:ext cx="1270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356FF-C39A-41B7-8A62-4CCA15CE83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2" descr=""/>
          <p:cNvPicPr/>
          <p:nvPr/>
        </p:nvPicPr>
        <p:blipFill>
          <a:blip r:embed="rId3"/>
          <a:stretch/>
        </p:blipFill>
        <p:spPr>
          <a:xfrm>
            <a:off x="4789440" y="6291360"/>
            <a:ext cx="1994040" cy="5490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2" descr=""/>
          <p:cNvPicPr/>
          <p:nvPr/>
        </p:nvPicPr>
        <p:blipFill>
          <a:blip r:embed="rId4"/>
          <a:stretch/>
        </p:blipFill>
        <p:spPr>
          <a:xfrm>
            <a:off x="0" y="0"/>
            <a:ext cx="12192120" cy="6840360"/>
          </a:xfrm>
          <a:prstGeom prst="rect">
            <a:avLst/>
          </a:prstGeom>
          <a:ln w="0">
            <a:noFill/>
          </a:ln>
        </p:spPr>
      </p:pic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1d51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ftr" idx="14"/>
          </p:nvPr>
        </p:nvSpPr>
        <p:spPr>
          <a:xfrm>
            <a:off x="2641320" y="6447960"/>
            <a:ext cx="322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15"/>
          </p:nvPr>
        </p:nvSpPr>
        <p:spPr>
          <a:xfrm>
            <a:off x="10682280" y="5900760"/>
            <a:ext cx="1270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94DF9-0E2F-4B9C-84FC-C8B34CE306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Picture 2" descr=""/>
          <p:cNvPicPr/>
          <p:nvPr/>
        </p:nvPicPr>
        <p:blipFill>
          <a:blip r:embed="rId3"/>
          <a:stretch/>
        </p:blipFill>
        <p:spPr>
          <a:xfrm>
            <a:off x="4789440" y="6291360"/>
            <a:ext cx="1994040" cy="54900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2" descr=""/>
          <p:cNvPicPr/>
          <p:nvPr/>
        </p:nvPicPr>
        <p:blipFill>
          <a:blip r:embed="rId4"/>
          <a:stretch/>
        </p:blipFill>
        <p:spPr>
          <a:xfrm>
            <a:off x="0" y="0"/>
            <a:ext cx="12192120" cy="6840360"/>
          </a:xfrm>
          <a:prstGeom prst="rect">
            <a:avLst/>
          </a:prstGeom>
          <a:ln w="0">
            <a:noFill/>
          </a:ln>
        </p:spPr>
      </p:pic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1d51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1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1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18"/>
          </p:nvPr>
        </p:nvSpPr>
        <p:spPr>
          <a:xfrm>
            <a:off x="10682280" y="5900760"/>
            <a:ext cx="1270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1d5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B0100-3D7A-46EE-83D7-7E1B1CABFB82}" type="slidenum">
              <a:rPr b="0" lang="en-US" sz="1200" spc="-1" strike="noStrike">
                <a:solidFill>
                  <a:srgbClr val="001d5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Picture 2" descr=""/>
          <p:cNvPicPr/>
          <p:nvPr/>
        </p:nvPicPr>
        <p:blipFill>
          <a:blip r:embed="rId3"/>
          <a:stretch/>
        </p:blipFill>
        <p:spPr>
          <a:xfrm>
            <a:off x="4789440" y="6291360"/>
            <a:ext cx="1994040" cy="54900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2" descr=""/>
          <p:cNvPicPr/>
          <p:nvPr/>
        </p:nvPicPr>
        <p:blipFill>
          <a:blip r:embed="rId4"/>
          <a:stretch/>
        </p:blipFill>
        <p:spPr>
          <a:xfrm>
            <a:off x="0" y="0"/>
            <a:ext cx="12192120" cy="6840360"/>
          </a:xfrm>
          <a:prstGeom prst="rect">
            <a:avLst/>
          </a:prstGeom>
          <a:ln w="0">
            <a:noFill/>
          </a:ln>
        </p:spPr>
      </p:pic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1d51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3"/>
          <a:stretch/>
        </p:blipFill>
        <p:spPr>
          <a:xfrm>
            <a:off x="4789440" y="6291360"/>
            <a:ext cx="1994040" cy="549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"/>
          <p:cNvPicPr/>
          <p:nvPr/>
        </p:nvPicPr>
        <p:blipFill>
          <a:blip r:embed="rId4"/>
          <a:stretch/>
        </p:blipFill>
        <p:spPr>
          <a:xfrm>
            <a:off x="0" y="0"/>
            <a:ext cx="12192120" cy="68403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1d51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4789440" y="6291360"/>
            <a:ext cx="1994040" cy="549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4"/>
          <a:stretch/>
        </p:blipFill>
        <p:spPr>
          <a:xfrm>
            <a:off x="0" y="0"/>
            <a:ext cx="12192120" cy="68403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1d51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2"/>
          </p:nvPr>
        </p:nvSpPr>
        <p:spPr>
          <a:xfrm>
            <a:off x="10682280" y="5900760"/>
            <a:ext cx="1270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5F2E2-6539-4FC6-A73C-DB4C42923E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3"/>
          <a:stretch/>
        </p:blipFill>
        <p:spPr>
          <a:xfrm>
            <a:off x="4789440" y="6291360"/>
            <a:ext cx="1994040" cy="549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"/>
          <p:cNvPicPr/>
          <p:nvPr/>
        </p:nvPicPr>
        <p:blipFill>
          <a:blip r:embed="rId4"/>
          <a:stretch/>
        </p:blipFill>
        <p:spPr>
          <a:xfrm>
            <a:off x="0" y="0"/>
            <a:ext cx="12192120" cy="68403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1d51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10682280" y="5900760"/>
            <a:ext cx="1270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B6D8D-E779-4BAE-9949-755A4B7E93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3"/>
          <a:stretch/>
        </p:blipFill>
        <p:spPr>
          <a:xfrm>
            <a:off x="4789440" y="6291360"/>
            <a:ext cx="1994040" cy="549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"/>
          <p:cNvPicPr/>
          <p:nvPr/>
        </p:nvPicPr>
        <p:blipFill>
          <a:blip r:embed="rId4"/>
          <a:stretch/>
        </p:blipFill>
        <p:spPr>
          <a:xfrm>
            <a:off x="0" y="0"/>
            <a:ext cx="12192120" cy="68403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1d51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4"/>
          </p:nvPr>
        </p:nvSpPr>
        <p:spPr>
          <a:xfrm>
            <a:off x="10682280" y="5900760"/>
            <a:ext cx="1270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2AC8D-98BF-459E-9E9A-6B6C6717EA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"/>
          <p:cNvPicPr/>
          <p:nvPr/>
        </p:nvPicPr>
        <p:blipFill>
          <a:blip r:embed="rId3"/>
          <a:stretch/>
        </p:blipFill>
        <p:spPr>
          <a:xfrm>
            <a:off x="4789440" y="6291360"/>
            <a:ext cx="1994040" cy="549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"/>
          <p:cNvPicPr/>
          <p:nvPr/>
        </p:nvPicPr>
        <p:blipFill>
          <a:blip r:embed="rId4"/>
          <a:stretch/>
        </p:blipFill>
        <p:spPr>
          <a:xfrm>
            <a:off x="0" y="0"/>
            <a:ext cx="12192120" cy="68403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1d51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ftr" idx="5"/>
          </p:nvPr>
        </p:nvSpPr>
        <p:spPr>
          <a:xfrm>
            <a:off x="2641320" y="6447960"/>
            <a:ext cx="322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sldNum" idx="6"/>
          </p:nvPr>
        </p:nvSpPr>
        <p:spPr>
          <a:xfrm>
            <a:off x="10682280" y="5900760"/>
            <a:ext cx="1270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1ED7C-A88E-4A9E-B171-2863BC902D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"/>
          <p:cNvPicPr/>
          <p:nvPr/>
        </p:nvPicPr>
        <p:blipFill>
          <a:blip r:embed="rId3"/>
          <a:stretch/>
        </p:blipFill>
        <p:spPr>
          <a:xfrm>
            <a:off x="4789440" y="6291360"/>
            <a:ext cx="1994040" cy="549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" descr=""/>
          <p:cNvPicPr/>
          <p:nvPr/>
        </p:nvPicPr>
        <p:blipFill>
          <a:blip r:embed="rId4"/>
          <a:stretch/>
        </p:blipFill>
        <p:spPr>
          <a:xfrm>
            <a:off x="0" y="0"/>
            <a:ext cx="12192120" cy="684036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1d51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7"/>
          </p:nvPr>
        </p:nvSpPr>
        <p:spPr>
          <a:xfrm>
            <a:off x="10682280" y="5900760"/>
            <a:ext cx="1270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2254F-E76E-4426-91D9-3356A98832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"/>
          <p:cNvPicPr/>
          <p:nvPr/>
        </p:nvPicPr>
        <p:blipFill>
          <a:blip r:embed="rId3"/>
          <a:stretch/>
        </p:blipFill>
        <p:spPr>
          <a:xfrm>
            <a:off x="4789440" y="6291360"/>
            <a:ext cx="1994040" cy="549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2" descr=""/>
          <p:cNvPicPr/>
          <p:nvPr/>
        </p:nvPicPr>
        <p:blipFill>
          <a:blip r:embed="rId4"/>
          <a:stretch/>
        </p:blipFill>
        <p:spPr>
          <a:xfrm>
            <a:off x="0" y="0"/>
            <a:ext cx="12192120" cy="684036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1d51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8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9"/>
          </p:nvPr>
        </p:nvSpPr>
        <p:spPr>
          <a:xfrm>
            <a:off x="2641320" y="6447960"/>
            <a:ext cx="322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10"/>
          </p:nvPr>
        </p:nvSpPr>
        <p:spPr>
          <a:xfrm>
            <a:off x="10682280" y="5900760"/>
            <a:ext cx="1270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E5A6C-0CA4-4745-B474-74759C2601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"/>
          <p:cNvPicPr/>
          <p:nvPr/>
        </p:nvPicPr>
        <p:blipFill>
          <a:blip r:embed="rId3"/>
          <a:stretch/>
        </p:blipFill>
        <p:spPr>
          <a:xfrm>
            <a:off x="4789440" y="6291360"/>
            <a:ext cx="1994040" cy="54900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2" descr=""/>
          <p:cNvPicPr/>
          <p:nvPr/>
        </p:nvPicPr>
        <p:blipFill>
          <a:blip r:embed="rId4"/>
          <a:stretch/>
        </p:blipFill>
        <p:spPr>
          <a:xfrm>
            <a:off x="0" y="0"/>
            <a:ext cx="12192120" cy="684036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1d51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e5bd33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d5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ftr" idx="11"/>
          </p:nvPr>
        </p:nvSpPr>
        <p:spPr>
          <a:xfrm>
            <a:off x="2641320" y="6447960"/>
            <a:ext cx="322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sldNum" idx="12"/>
          </p:nvPr>
        </p:nvSpPr>
        <p:spPr>
          <a:xfrm>
            <a:off x="10682280" y="5900760"/>
            <a:ext cx="1270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5EB98-2072-4657-BAD6-0FAAB2F9F9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 txBox="1"/>
          <p:nvPr/>
        </p:nvSpPr>
        <p:spPr>
          <a:xfrm>
            <a:off x="609480" y="1600200"/>
            <a:ext cx="5384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3600" spc="-1" strike="noStrike">
                <a:solidFill>
                  <a:srgbClr val="001d51"/>
                </a:solidFill>
                <a:latin typeface="Calibri"/>
              </a:rPr>
              <a:t>Comhairliúchán ar Ghearrchúrsa don Ríomhchlárú agus don chódú </a:t>
            </a:r>
            <a:endParaRPr b="0" lang="en-US" sz="3600" spc="-1" strike="noStrike">
              <a:solidFill>
                <a:srgbClr val="001d51"/>
              </a:solidFill>
              <a:latin typeface="Calibri"/>
            </a:endParaRPr>
          </a:p>
        </p:txBody>
      </p:sp>
      <p:pic>
        <p:nvPicPr>
          <p:cNvPr id="546" name="Picture 6" descr="Screen Clipping"/>
          <p:cNvPicPr/>
          <p:nvPr/>
        </p:nvPicPr>
        <p:blipFill>
          <a:blip r:embed="rId1"/>
          <a:stretch/>
        </p:blipFill>
        <p:spPr>
          <a:xfrm>
            <a:off x="6338880" y="1114560"/>
            <a:ext cx="3714840" cy="4628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1" descr=""/>
          <p:cNvPicPr/>
          <p:nvPr/>
        </p:nvPicPr>
        <p:blipFill>
          <a:blip r:embed="rId1"/>
          <a:stretch/>
        </p:blipFill>
        <p:spPr>
          <a:xfrm>
            <a:off x="3286080" y="1266840"/>
            <a:ext cx="5619960" cy="4324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88800" y="100296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4400" spc="-1" strike="noStrike">
                <a:solidFill>
                  <a:srgbClr val="001d51"/>
                </a:solidFill>
                <a:latin typeface="Calibri"/>
              </a:rPr>
              <a:t>Gearrchúrsa don Ríomhchlárú agus don Chódú </a:t>
            </a: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388800" y="2390760"/>
            <a:ext cx="5384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e5bd3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IE" sz="2800" spc="-1" strike="noStrike">
                <a:solidFill>
                  <a:srgbClr val="001d51"/>
                </a:solidFill>
                <a:latin typeface="Calibri"/>
              </a:rPr>
              <a:t>100 uair foghlama</a:t>
            </a:r>
            <a:endParaRPr b="0" lang="en-US" sz="2800" spc="-1" strike="noStrike">
              <a:solidFill>
                <a:srgbClr val="001d51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e5bd3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IE" sz="2800" spc="-1" strike="noStrike">
                <a:solidFill>
                  <a:srgbClr val="001d51"/>
                </a:solidFill>
                <a:latin typeface="Calibri"/>
              </a:rPr>
              <a:t>Arna theagasc thar 1, 2 nó 3 bliana</a:t>
            </a:r>
            <a:endParaRPr b="0" lang="en-US" sz="2800" spc="-1" strike="noStrike">
              <a:solidFill>
                <a:srgbClr val="001d51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e5bd3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IE" sz="2800" spc="-1" strike="noStrike">
                <a:solidFill>
                  <a:srgbClr val="001d51"/>
                </a:solidFill>
                <a:latin typeface="Calibri"/>
              </a:rPr>
              <a:t>Arna shonrú ag leibhéal comónta</a:t>
            </a:r>
            <a:endParaRPr b="0" lang="en-US" sz="2800" spc="-1" strike="noStrike">
              <a:solidFill>
                <a:srgbClr val="001d51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e5bd3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IE" sz="2800" spc="-1" strike="noStrike">
                <a:solidFill>
                  <a:srgbClr val="001d51"/>
                </a:solidFill>
                <a:latin typeface="Calibri"/>
              </a:rPr>
              <a:t>Is féidir oiread le 4 ghearrchúrsa a chur san áireamh sa teastas</a:t>
            </a:r>
            <a:endParaRPr b="0" lang="en-US" sz="2800" spc="-1" strike="noStrike">
              <a:solidFill>
                <a:srgbClr val="001d51"/>
              </a:solidFill>
              <a:latin typeface="Calibri"/>
            </a:endParaRPr>
          </a:p>
        </p:txBody>
      </p:sp>
      <p:pic>
        <p:nvPicPr>
          <p:cNvPr id="549" name="Content Placeholder 5" descr=""/>
          <p:cNvPicPr/>
          <p:nvPr/>
        </p:nvPicPr>
        <p:blipFill>
          <a:blip r:embed="rId1"/>
          <a:stretch/>
        </p:blipFill>
        <p:spPr>
          <a:xfrm>
            <a:off x="5773680" y="2390760"/>
            <a:ext cx="5384880" cy="3592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11360" y="9522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4400" spc="-1" strike="noStrike">
                <a:solidFill>
                  <a:srgbClr val="001d51"/>
                </a:solidFill>
                <a:latin typeface="Calibri"/>
              </a:rPr>
              <a:t>Gearrchúrsa don Ríomhchlárú agus don Chódú </a:t>
            </a: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pic>
        <p:nvPicPr>
          <p:cNvPr id="551" name="Content Placeholder 8" descr="Screen Clipping"/>
          <p:cNvPicPr/>
          <p:nvPr/>
        </p:nvPicPr>
        <p:blipFill>
          <a:blip r:embed="rId1"/>
          <a:stretch/>
        </p:blipFill>
        <p:spPr>
          <a:xfrm>
            <a:off x="609480" y="2878200"/>
            <a:ext cx="4364280" cy="255420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 txBox="1"/>
          <p:nvPr/>
        </p:nvSpPr>
        <p:spPr>
          <a:xfrm>
            <a:off x="5148360" y="2095200"/>
            <a:ext cx="6433920" cy="47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2800" spc="-1" strike="noStrike">
                <a:solidFill>
                  <a:srgbClr val="001d51"/>
                </a:solidFill>
                <a:latin typeface="Calibri"/>
              </a:rPr>
              <a:t>Aidhm:</a:t>
            </a:r>
            <a:endParaRPr b="0" lang="en-US" sz="2800" spc="-1" strike="noStrike">
              <a:solidFill>
                <a:srgbClr val="001d51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2800" spc="-1" strike="noStrike">
                <a:solidFill>
                  <a:srgbClr val="001d51"/>
                </a:solidFill>
                <a:latin typeface="Calibri"/>
              </a:rPr>
              <a:t>Is é is aidhm don ghearrchúrsa don Ríomhchlárú agus don Chódú cumas scoláirí a fhorbairt chun fadhbanna a leagan amach go loighciúil, chun cóid a dhearadh, a scríobh agus a thástáil, chun cluichí, aipeanna, beochana agus suíomhanna Gréasáin a fhorbairt agus, trí na gníomhaíochtaí foghlama sin, chun foghlaim faoin ríomheolaíocht.</a:t>
            </a:r>
            <a:endParaRPr b="0" lang="en-US" sz="2800" spc="-1" strike="noStrike">
              <a:solidFill>
                <a:srgbClr val="001d51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Content Placeholder 6" descr=""/>
          <p:cNvPicPr/>
          <p:nvPr/>
        </p:nvPicPr>
        <p:blipFill>
          <a:blip r:embed="rId1"/>
          <a:stretch/>
        </p:blipFill>
        <p:spPr>
          <a:xfrm>
            <a:off x="6188040" y="1603440"/>
            <a:ext cx="5407200" cy="3979800"/>
          </a:xfrm>
          <a:prstGeom prst="rect">
            <a:avLst/>
          </a:prstGeom>
          <a:ln w="0">
            <a:noFill/>
          </a:ln>
        </p:spPr>
      </p:pic>
      <p:sp>
        <p:nvSpPr>
          <p:cNvPr id="554" name="Slide Number Placeholder 4"/>
          <p:cNvSpPr/>
          <p:nvPr/>
        </p:nvSpPr>
        <p:spPr>
          <a:xfrm>
            <a:off x="10682280" y="5900760"/>
            <a:ext cx="1270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2FCC8-CA9E-4400-ABE5-4C58639767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5" name="Content Placeholder 4" descr="Screen Clipping"/>
          <p:cNvPicPr/>
          <p:nvPr/>
        </p:nvPicPr>
        <p:blipFill>
          <a:blip r:embed="rId2"/>
          <a:stretch/>
        </p:blipFill>
        <p:spPr>
          <a:xfrm>
            <a:off x="1060560" y="1884240"/>
            <a:ext cx="3859200" cy="3900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6" name=""/>
          <p:cNvGraphicFramePr/>
          <p:nvPr/>
        </p:nvGraphicFramePr>
        <p:xfrm>
          <a:off x="2031840" y="1397160"/>
          <a:ext cx="8128080" cy="2560320"/>
        </p:xfrm>
        <a:graphic>
          <a:graphicData uri="http://schemas.openxmlformats.org/drawingml/2006/table">
            <a:tbl>
              <a:tblPr/>
              <a:tblGrid>
                <a:gridCol w="2911680"/>
                <a:gridCol w="5216400"/>
              </a:tblGrid>
              <a:tr h="2562840"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I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raith 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I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treoir don Ríomheolaíoch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I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paicí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I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n domhan digiteach s’agam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I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ábhacht na ríomhairí sa tsochaí chomhaimseartha agus i mo shao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I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heith i mo chódóir – céim ar chéim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I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nas ríomhchlárú a thosú agus bunalgartaim a fhorbai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7" name=""/>
          <p:cNvGraphicFramePr/>
          <p:nvPr/>
        </p:nvGraphicFramePr>
        <p:xfrm>
          <a:off x="2031840" y="1397160"/>
          <a:ext cx="8128080" cy="2638440"/>
        </p:xfrm>
        <a:graphic>
          <a:graphicData uri="http://schemas.openxmlformats.org/drawingml/2006/table">
            <a:tbl>
              <a:tblPr/>
              <a:tblGrid>
                <a:gridCol w="2911680"/>
                <a:gridCol w="5216400"/>
              </a:tblGrid>
              <a:tr h="2638440"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I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raith 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I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ascaim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I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paicí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I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aisc a dhéanamh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I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s fearais chumarsáide iad na ríomhair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I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iotáin agus beart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I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n chaoi a stórálann ríomhairí sonra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8" name=""/>
          <p:cNvGraphicFramePr/>
          <p:nvPr/>
        </p:nvGraphicFramePr>
        <p:xfrm>
          <a:off x="2031840" y="1397160"/>
          <a:ext cx="8128080" cy="2001600"/>
        </p:xfrm>
        <a:graphic>
          <a:graphicData uri="http://schemas.openxmlformats.org/drawingml/2006/table">
            <a:tbl>
              <a:tblPr/>
              <a:tblGrid>
                <a:gridCol w="2911680"/>
                <a:gridCol w="5216400"/>
              </a:tblGrid>
              <a:tr h="2001600"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I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raith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ódú ag an gcéad leibhéal e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I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paicí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I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incheapa níos forbartha i gclárú agus i smaointeoireacht ríomhaireachtúi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I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oiciméadúchán agus anailís chódúchá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9" name=""/>
          <p:cNvGraphicFramePr/>
          <p:nvPr/>
        </p:nvGraphicFramePr>
        <p:xfrm>
          <a:off x="2031840" y="1397160"/>
          <a:ext cx="8128080" cy="2738160"/>
        </p:xfrm>
        <a:graphic>
          <a:graphicData uri="http://schemas.openxmlformats.org/drawingml/2006/table">
            <a:tbl>
              <a:tblPr/>
              <a:tblGrid>
                <a:gridCol w="2719440"/>
                <a:gridCol w="5408640"/>
              </a:tblGrid>
              <a:tr h="2738160"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I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raith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I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adhbréiteach sa saol mar at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I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paicí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I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adhbanna an tsaoil réadúil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I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n ríomheolaíocht do mo spreagad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I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g cur na bpíosaí le chéile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I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ionscadal bogearra deiridh a thógáil  a ionchorpraíonn coincheapa a foghlaimíodh i sraitheanna roimhe se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E" sz="4400" spc="-1" strike="noStrike">
                <a:solidFill>
                  <a:srgbClr val="001d51"/>
                </a:solidFill>
                <a:latin typeface="Calibri"/>
              </a:rPr>
              <a:t>	</a:t>
            </a:r>
            <a:r>
              <a:rPr b="0" lang="en-IE" sz="4400" spc="-1" strike="noStrike">
                <a:solidFill>
                  <a:srgbClr val="001d51"/>
                </a:solidFill>
                <a:latin typeface="Calibri"/>
              </a:rPr>
              <a:t>	</a:t>
            </a:r>
            <a:r>
              <a:rPr b="0" lang="en-IE" sz="4400" spc="-1" strike="noStrike">
                <a:solidFill>
                  <a:srgbClr val="001d51"/>
                </a:solidFill>
                <a:latin typeface="Calibri"/>
              </a:rPr>
              <a:t>	</a:t>
            </a:r>
            <a:r>
              <a:rPr b="0" lang="en-IE" sz="4400" spc="-1" strike="noStrike">
                <a:solidFill>
                  <a:srgbClr val="001d51"/>
                </a:solidFill>
                <a:latin typeface="Calibri"/>
              </a:rPr>
              <a:t>	</a:t>
            </a:r>
            <a:r>
              <a:rPr b="0" lang="en-IE" sz="4400" spc="-1" strike="noStrike">
                <a:solidFill>
                  <a:srgbClr val="001d51"/>
                </a:solidFill>
                <a:latin typeface="Calibri"/>
              </a:rPr>
              <a:t>	</a:t>
            </a:r>
            <a:r>
              <a:rPr b="0" lang="en-IE" sz="4400" spc="-1" strike="noStrike">
                <a:solidFill>
                  <a:srgbClr val="001d51"/>
                </a:solidFill>
                <a:latin typeface="Calibri"/>
              </a:rPr>
              <a:t>	</a:t>
            </a:r>
            <a:r>
              <a:rPr b="0" lang="en-IE" sz="4400" spc="-1" strike="noStrike">
                <a:solidFill>
                  <a:srgbClr val="001d51"/>
                </a:solidFill>
                <a:latin typeface="Calibri"/>
              </a:rPr>
              <a:t>	</a:t>
            </a:r>
            <a:r>
              <a:rPr b="0" lang="en-IE" sz="4400" spc="-1" strike="noStrike">
                <a:solidFill>
                  <a:srgbClr val="001d51"/>
                </a:solidFill>
                <a:latin typeface="Calibri"/>
              </a:rPr>
              <a:t>	</a:t>
            </a:r>
            <a:r>
              <a:rPr b="0" lang="en-IE" sz="4400" spc="-1" strike="noStrike">
                <a:solidFill>
                  <a:srgbClr val="001d51"/>
                </a:solidFill>
                <a:latin typeface="Calibri"/>
              </a:rPr>
              <a:t>	</a:t>
            </a:r>
            <a:r>
              <a:rPr b="0" lang="en-IE" sz="4400" spc="-1" strike="noStrike">
                <a:solidFill>
                  <a:srgbClr val="001d51"/>
                </a:solidFill>
                <a:latin typeface="Calibri"/>
              </a:rPr>
              <a:t>	</a:t>
            </a:r>
            <a:r>
              <a:rPr b="0" lang="en-IE" sz="4400" spc="-1" strike="noStrike">
                <a:solidFill>
                  <a:srgbClr val="001d51"/>
                </a:solidFill>
                <a:latin typeface="Calibri"/>
              </a:rPr>
              <a:t>Measúnú</a:t>
            </a:r>
            <a:endParaRPr b="0" lang="en-US" sz="4400" spc="-1" strike="noStrike">
              <a:solidFill>
                <a:srgbClr val="001d51"/>
              </a:solidFill>
              <a:latin typeface="Calibri"/>
            </a:endParaRPr>
          </a:p>
        </p:txBody>
      </p:sp>
      <p:pic>
        <p:nvPicPr>
          <p:cNvPr id="561" name="Content Placeholder 5" descr="Screen Clipping"/>
          <p:cNvPicPr/>
          <p:nvPr/>
        </p:nvPicPr>
        <p:blipFill>
          <a:blip r:embed="rId1"/>
          <a:stretch/>
        </p:blipFill>
        <p:spPr>
          <a:xfrm>
            <a:off x="2316240" y="2514600"/>
            <a:ext cx="1093680" cy="816120"/>
          </a:xfrm>
          <a:prstGeom prst="rect">
            <a:avLst/>
          </a:prstGeom>
          <a:ln w="0">
            <a:noFill/>
          </a:ln>
        </p:spPr>
      </p:pic>
      <p:sp>
        <p:nvSpPr>
          <p:cNvPr id="562" name="Rounded Rectangle 3"/>
          <p:cNvSpPr/>
          <p:nvPr/>
        </p:nvSpPr>
        <p:spPr>
          <a:xfrm>
            <a:off x="2149560" y="2494080"/>
            <a:ext cx="743904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Obair leanúnach tionscada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Rounded Rectangle 4"/>
          <p:cNvSpPr/>
          <p:nvPr/>
        </p:nvSpPr>
        <p:spPr>
          <a:xfrm>
            <a:off x="2149560" y="4081320"/>
            <a:ext cx="743904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Tionscadal Deirean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4" name="Picture 6" descr="Screen Clipping"/>
          <p:cNvPicPr/>
          <p:nvPr/>
        </p:nvPicPr>
        <p:blipFill>
          <a:blip r:embed="rId2"/>
          <a:stretch/>
        </p:blipFill>
        <p:spPr>
          <a:xfrm>
            <a:off x="2316240" y="4164120"/>
            <a:ext cx="1195200" cy="750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6T15:47:37Z</dcterms:created>
  <dc:creator>denise.kelly</dc:creator>
  <dc:description/>
  <dc:language>en-US</dc:language>
  <cp:lastModifiedBy>Fred Boss</cp:lastModifiedBy>
  <dcterms:modified xsi:type="dcterms:W3CDTF">2014-01-16T12:52:42Z</dcterms:modified>
  <cp:revision>26</cp:revision>
  <dc:subject/>
  <dc:title>PowerPoint Presentation</dc:title>
</cp:coreProperties>
</file>