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175d"/>
              </a:solidFill>
              <a:latin typeface="Cambria"/>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move the slide</a:t>
            </a:r>
            <a:endParaRPr b="0" lang="en-US" sz="5800" spc="-1" strike="noStrike">
              <a:solidFill>
                <a:srgbClr val="12175d"/>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356D-E19E-4BEC-A2C1-EAAA3FA15C0C}" type="slidenum">
              <a:rPr b="0" lang="en-I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8BA4-8731-4EB3-8D76-EB0E052A3804}"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arrfar ort anois plé a dhéanamh i do ghrúpa ar céard a shíleann tú faoi na pleananna seo </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8357-9D09-4FD8-A201-589198722D2C}"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C225-2F71-4C78-9F02-3A42EDB3EC42}"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s í aidhm ghearrchúrsa an CO a chinntiú go mbíonn deiseanna ag gach scoláire sa rang chun a scileanna a fhorbairt agus go mbíonn siad ábalta cruthú go maith i réimse gníomhaíochtaí difriúla. Tá sé seo tábhachtach mar go bhfuil a fhios againn go bhfuil gach scoláire difriúil agus nach mbaineann gach scoláire taitneamh as na gníomhaíochtaí coirp céanna. Sa ghearrchúrsa seo, tá an bhéim ar fhoghlaim trí agus faoi réimse leathan gníomhaíochtaí difriúla.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s aidhm leis an ngearrchúrsa seo freisin sibh a theagasc faoi thábhacht na gníomhaíochta coirp i bhur saol anois agus amach anseo.   De bhrí go bhfuil sé chomh tábhachtach sin dár sláinte agus dár bhfolláine, beidh deiseanna agaibh freisin foghlaim faoi ghníomhaíochtaí atá cuimsitheach agus is féidir le gach duine a dhéanamh ar neamhchead d’aon mhíchumas a d’fhéadfadh bheith orthu. </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7F35-6263-462C-870E-BEC3009DCA3A}"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IE" sz="1300" spc="-1" strike="noStrike">
                <a:solidFill>
                  <a:srgbClr val="000000"/>
                </a:solidFill>
                <a:latin typeface="Calibri"/>
                <a:ea typeface="ＭＳ Ｐゴシック"/>
              </a:rPr>
              <a:t>Tá an gearrchúrsa comhdhéanta de cheithre shraith. Díríonn gach sraith ar théama difriúil agus cabhróidh an chéad chúpla sleamhnán eile leat beagán níos mó tuisceana a bheith agat ar na téamaí difriúla seo. </a:t>
            </a:r>
            <a:endParaRPr b="0" lang="en-US" sz="13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FEF5-78B8-43EF-B452-34FFA831146D}"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 Sraith a haon, roghnóidh do rang agus do mhúinteoir trí ghníomhaíocht ón cheathrar atá le feiceáil thuas.  Foghlaimeoidh tú le do chruthú i leith, agus do thuiscint ar, gach ceann de na gníomhaíochtaí atá roghnaithe agat a fheabhs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g deireadh na Sraithe, oibreoidh tú le do chairde sa rang le buaic-imeacht a eagrú i gceann amháin de na gníomhaíochtaí a ndearna sibh staidéar orth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ar shampla, thiocfadh libh blitz Badmantain a eagrú laistigh de bhur rang féin nó i gcomhar le rang e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in n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ocfadh libh imeacht lúthchleasaíochta a eagrú bunaithe ar na gníomhaíochtaí lúthchleasaíochta a bhí sibh a chleachtadh sa rang. </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C959-B2E8-4843-AAF6-56A1B1B7515A}"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 Sraith 2, foghlaimeoidh tú chun do leibhéil aclaíochta a thomhas agus páirt a ghlacadh i réimse gníomhaíochtaí a chabhróidh leat cur le d’aclaíoc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iúchfaidh tú freisin deiseanna difriúla do dhaoine óga chun páirt a ghlacadh i ngníomhaíocht choirp sa scoil agus taobh amuigh di. </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51CD-8F8C-4EA0-9C11-55E844B4EA72}"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a tSraith seo, foghlaimeoidh tú faoin treodóireacht agus conas léarscáil a léam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Gheobhaidh tú seans freisin páirt a ghlacadh i ndúshláin dhifriúla foirne ina mbeidh deiseanna agaibh mar ghrúpa chun fadhbanna a réiteach. </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5C04-4DBD-4490-AA89-A562B4202F81}"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a tSraith dheireanach, foghlaimeoidh do rang faoi ghleacaíocht nó faoi dhamhsa.  Foghlaimeoidh sibh faoi stíleanna agus smaointe difriúla agus ansin oibreoidh sibh mar ghrúpa le bhur dtaibhiú féin a chruth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éanfaidh tí físeán de do thaibhiú deireanach mar chuid de do mheasúnú. </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FB6C-6F63-4C75-B131-180E39310212}"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There are two assessment pie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As you learn in the different strands, you will participate in a culminating activity. A dance/gymnastics performance and an orienteering event.  Each time, you will keep records, i.e. videos, photographs, reflec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Tá dhá phíosa measúnaithe an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Agus tú ag foghlaim sna Sraitheanna difriúla, glacfaidh tú páirt i mbuaic-imeacht.  Damhsa/taibhiú gleacaíochta agus imeacht treodóireachta.  Gach uair, coimeádfaidh tú taifid, i.e. físeáin, grianghraif, machnaimh.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Do do mheasúnú, roghnóidh tú an ceann is fearr díobh seo agus é a chur isteach mar mheasúnú deiridh.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Don dara cuid den mheasúnú, i Sraith 2, iarrfar ort Próifíl Phearsanta Gníomhaíochta a chur le chéile ina mbeidh torthaí do theisteanna aclaíochta, plean chun do chuid torthaí a fheabhsú agus roinnt eolais faoi ghníomhaíochtaí i do chomhphobal a bhfuil suim agat iontu nó a mbeadh suim agat tabhairt fúthu.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2712-A201-43C7-961E-E4CAB73D1D8C}"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5107A-8FE2-47C1-A5B8-4A7889222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3BF0D-BD10-4DE3-B390-530EC00DD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79090-E79F-4D13-9677-CA2111122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FFFF3-BB06-4881-B480-C8D7616D1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FC65F-F61F-4EEC-A426-42F8610BB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C375FC-EC34-4799-BD97-221B217DF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057F3-8179-417E-B1B5-446043D726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58127-DA58-4249-9288-55FDC1E42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4D21C4-8A0A-4886-BA4B-7AC5813A1B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4E3C73-A889-410A-82C1-00B71FAA6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912821-0F41-4B77-9208-BC48C88B6F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7BE737-53CB-4259-BA3D-9DBA019B88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D8E9C-0683-4709-9FCA-FD38CAA0C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A27502-23D5-42E2-99B8-DE74DD790E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83C04A-B5BB-44D3-A013-583E9C7700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3EB8F2-D172-426B-ACF8-E56D4912C5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586C69-E96A-4364-A200-53813CFD2C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CB5802-7F79-4405-A7F5-99E6CB46D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1842C6-19EC-4BDD-BEE0-B377B13521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A37F94-E942-4A2D-826D-3429104B0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F611E-4C0C-48D7-814A-36750C7FEC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6008EE-9A2E-4FAA-A3DE-D51EA4808C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2E3DC8-D86A-4556-9676-2BB7E9C2E5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EA6B6-C07C-4B4F-B2A2-D1B0995F5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55592D-9D86-46A8-B584-D79194C869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00224F-D0BB-4302-B1BC-466BFFD617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0E540B-8FEA-4892-988E-AD4E3278CB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53799F-2D0D-4E20-AF35-190F2D7394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437964-D339-4D45-B58C-2991FF4A6D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94A55C-3895-4AF6-93D4-7699D99464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1977ED-4BB9-43D2-83F7-CB69009EA5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26BCE9-A13C-4670-A36E-EC7076627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5870FC-1D3C-44FF-8AEE-2D90558D26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BCDE6-9570-40F5-BAF1-7F05D06C06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22B40-54A5-4C27-9D32-8EEEF91D3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4FE0AD-971F-4643-9C34-5B301A51CD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850F51-F199-40F6-B37F-D22FEAE505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DDCB7C-EECE-4070-BA86-D7DBCCC209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CFC5E6-8571-426B-A09A-79E510F5CB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731643-D32D-49EC-9081-03118F8308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819E1D-B780-4B22-B7F0-5D6EFFD87B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D4E098-6474-4248-A76B-C7334F08D9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C91A03-4C8C-4EE8-8A80-0DB692B5C4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A00197-0A25-46EA-88E0-7E359C1FBA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3E24F1-F4E1-45A8-96BD-3008EF9702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080CF-63F9-4962-9D26-475266076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9D68F3-3562-4561-901C-AF2D5BFCAD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B91AE-AD29-40EC-8667-7DD0311B9F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BC0073-3BBF-4960-BB28-F15DCE1D0F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DBC757-3FAB-4C40-ADDD-0C1334CC71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B405A3-FBBE-4DCF-9BE5-31F2103C3E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A0C21-D30C-4092-B23C-9A8306DD0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FC6F7-BBC6-4724-AF03-6E0D3E3C2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D7276-FF58-4E57-8AA4-4CA3056F5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46D99-5F86-4A1B-A7B6-CE05C8276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8647-0D32-492C-BF7B-8CFA4B426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18F83-11BF-4A8B-B12B-AAA8DED8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40FF1-6018-4D7C-9594-CD1107665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1B54-F8CA-4E6F-A3A4-2C15A7EE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6B689-C90C-4CCC-9378-220B21AB4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9781A-0F6C-4F24-A5E7-FA800BB78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DC1E8-F5B4-49E1-BE66-3F2004F99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467411-09E7-4286-B916-1D5116250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9D34C-315E-4B00-BFB4-544770A8E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F41A4-930C-4243-9EA2-167CC2130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070F6-4596-426D-A698-20A904104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20E57-F884-489E-BC2C-7436ECD56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7870-54AE-4525-899D-279C7E59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87905-59F6-46B5-897E-4B801FFAF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A7902-81CB-40F7-B776-FD7413791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04309-5E20-4506-B560-4F96D728A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A264A-A3FB-48C4-9A88-AC1732D22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43C9A-787E-44EA-9415-688CE5893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C852A-E4ED-4060-A792-BDF1334A50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55B770-74E3-4F9D-B768-5061683BD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FB68CA-BBBC-4C40-947C-3825A2778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272C0-F8FA-408B-A7C5-37E160CDF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E8111-9C8A-4B52-848D-E1624DA4E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C4A8-4576-4B1B-AC43-4D3671037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09FCA-990F-44C9-A629-D79F88E02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15077-13F2-4ABD-80ED-CCC477857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06DAB-AFC9-4CBA-9935-CAF46F9AC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8ADEA-B305-443E-8DAD-C13340CA5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72851-5826-42A6-9F1C-CE6E06CEF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0E94E-F989-4C69-B386-876721A54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CECEA5-F060-4DD0-A722-FF34B337C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E680C8-E067-44DC-92B2-1A3D49341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93235-F1D8-4D90-9284-A7854A140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21DF4-F641-44EF-95C5-FB0941734D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23740-B43F-4112-BB5E-CBE4A9FB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38F48-AA8B-438D-8C4E-86C17A89B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D93BEC-6571-4ADF-93F8-91CB8545A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D3884-C3BD-4D54-BB5A-5A84C4FC0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7F0DF2-95D8-473E-B4E6-7ED09F696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4A8C0-5C65-439B-A290-16B6D4107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53EAC-04D1-4C1B-8F37-9B30BF418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DF8E1-07F0-464B-B8FC-F4362B7B8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2020C-8F07-4FC8-AE59-6D6BEBFEA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85B25-6FFD-4E0F-9BB7-704F0310D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B14F8-3D6C-41CC-ABA1-31FE89C6EC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D423A-1CDF-4BCC-848F-E3D591AF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E4DDE8-2C17-49F8-A635-279BE39119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53E919-F6A6-423C-BBA6-C8FA0650E3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AC864-BCD8-4478-90E1-21CA37C5C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2FAB8-385C-49FC-8C23-A78DDC9DC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E7C12-6E24-4BAB-8637-47AE1B7DB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A98B7-B24A-4CCB-B9ED-C5E1C26A7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5BBE6-68E0-462E-81B8-48E8899C0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D1F53-E719-4E2F-8E70-750E318FB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1CAFD-5533-4203-A98B-EDE02382C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577F4-8710-4394-A852-428A0BDB3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AE2A-37F9-49B7-9D09-A405247E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CD3C5-2ED9-4A2E-B415-945D1745CA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156DAF-D266-4DFF-AE2D-CF813F4CC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806358-94FD-40AC-BFCE-39E47A3136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DA8CC5-C319-4463-8265-E0786772A9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48CC5-171C-409F-9C0D-FA5C61E1E1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EC1AE-5C6C-4678-B0A8-2AE58869CF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339E1-1A4A-4980-93A6-CE126A592A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12424F-291C-439B-BA64-16E55E4D75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C9995-9500-4D6D-9784-ED039D447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0C95B-487A-4F63-8EA2-9131F2DD4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3903-3CF5-48CD-A36E-E65797EEB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C4DA3-3B3F-4C96-A7BA-D3CB82D70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A2B7D-7117-4555-BBF2-B064DBAD0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8F185-55D6-417E-ADE5-CFFA212D2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F0EA50-F845-4807-A65C-FC2204C220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89C9DF-DC95-40D5-95BF-F3FD33D744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417368-1AD3-439A-A947-6BBD75CE38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F0623-9C25-468C-ABF1-7DA2C2771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A78AC-4AF2-4DC3-952B-78F82A4760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686AC-9463-4312-917E-B11AE1CCBE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7B4200-C08E-4D04-9256-77E839A5D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FA1D-043B-409F-805C-25B60B24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7C4CE-2A76-4C12-A95D-4DE9ED6A2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6B4A3-89F7-4052-84E1-0FBA78726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066F9-915C-4C7E-B978-780ADB7D6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174AC-F5D2-4DB5-94B3-319E661D5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A2A614-4006-40AA-A9BB-AB03928AA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7960A7-3C04-4FE3-819D-2E3F4B6639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67F272-5C46-4E64-B22A-B0760E6549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750DF3-BB38-45C9-A859-83E9400463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B3835-1EF0-4DE9-AC89-CB0B600313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949F5-53CD-4289-B157-805F620357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 name="PlaceHolder 3"/>
          <p:cNvSpPr>
            <a:spLocks noGrp="1"/>
          </p:cNvSpPr>
          <p:nvPr>
            <p:ph type="dt" idx="1"/>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 name="PlaceHolder 4"/>
          <p:cNvSpPr>
            <a:spLocks noGrp="1"/>
          </p:cNvSpPr>
          <p:nvPr>
            <p:ph type="ftr" idx="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 name="PlaceHolder 5"/>
          <p:cNvSpPr>
            <a:spLocks noGrp="1"/>
          </p:cNvSpPr>
          <p:nvPr>
            <p:ph type="sldNum" idx="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E35E-AC2C-4660-8F45-6F53C9399AD2}" type="slidenum">
              <a:rPr b="0" lang="en-GB" sz="1600" spc="-1" strike="noStrike">
                <a:solidFill>
                  <a:srgbClr val="8a8b9c"/>
                </a:solidFill>
                <a:latin typeface="Arial"/>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371" name="PlaceHolder 3"/>
          <p:cNvSpPr>
            <a:spLocks noGrp="1"/>
          </p:cNvSpPr>
          <p:nvPr>
            <p:ph type="dt" idx="28"/>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72" name="PlaceHolder 4"/>
          <p:cNvSpPr>
            <a:spLocks noGrp="1"/>
          </p:cNvSpPr>
          <p:nvPr>
            <p:ph type="ftr" idx="29"/>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73" name="PlaceHolder 5"/>
          <p:cNvSpPr>
            <a:spLocks noGrp="1"/>
          </p:cNvSpPr>
          <p:nvPr>
            <p:ph type="sldNum" idx="30"/>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1B9F-3454-4A3A-9C89-D50FAA5236E3}"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12" name="PlaceHolder 3"/>
          <p:cNvSpPr>
            <a:spLocks noGrp="1"/>
          </p:cNvSpPr>
          <p:nvPr>
            <p:ph type="dt" idx="31"/>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13" name="PlaceHolder 4"/>
          <p:cNvSpPr>
            <a:spLocks noGrp="1"/>
          </p:cNvSpPr>
          <p:nvPr>
            <p:ph type="ftr" idx="3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14" name="PlaceHolder 5"/>
          <p:cNvSpPr>
            <a:spLocks noGrp="1"/>
          </p:cNvSpPr>
          <p:nvPr>
            <p:ph type="sldNum" idx="33"/>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70C3-390B-498B-9D14-4370D49F346F}"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53" name="PlaceHolder 3"/>
          <p:cNvSpPr>
            <a:spLocks noGrp="1"/>
          </p:cNvSpPr>
          <p:nvPr>
            <p:ph type="dt" idx="3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4" name="PlaceHolder 4"/>
          <p:cNvSpPr>
            <a:spLocks noGrp="1"/>
          </p:cNvSpPr>
          <p:nvPr>
            <p:ph type="ftr" idx="3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5" name="PlaceHolder 5"/>
          <p:cNvSpPr>
            <a:spLocks noGrp="1"/>
          </p:cNvSpPr>
          <p:nvPr>
            <p:ph type="sldNum" idx="36"/>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8CC7-2E63-4C23-B1B7-B16419D8F5FB}"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3" name="PlaceHolder 3"/>
          <p:cNvSpPr>
            <a:spLocks noGrp="1"/>
          </p:cNvSpPr>
          <p:nvPr>
            <p:ph type="dt" idx="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4" name="PlaceHolder 4"/>
          <p:cNvSpPr>
            <a:spLocks noGrp="1"/>
          </p:cNvSpPr>
          <p:nvPr>
            <p:ph type="ftr" idx="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 name="PlaceHolder 5"/>
          <p:cNvSpPr>
            <a:spLocks noGrp="1"/>
          </p:cNvSpPr>
          <p:nvPr>
            <p:ph type="sldNum" idx="6"/>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1041-2D79-44C9-B354-C55C2E925175}"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84" name="PlaceHolder 3"/>
          <p:cNvSpPr>
            <a:spLocks noGrp="1"/>
          </p:cNvSpPr>
          <p:nvPr>
            <p:ph type="dt" idx="7"/>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85" name="PlaceHolder 4"/>
          <p:cNvSpPr>
            <a:spLocks noGrp="1"/>
          </p:cNvSpPr>
          <p:nvPr>
            <p:ph type="ftr" idx="8"/>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86" name="PlaceHolder 5"/>
          <p:cNvSpPr>
            <a:spLocks noGrp="1"/>
          </p:cNvSpPr>
          <p:nvPr>
            <p:ph type="sldNum" idx="9"/>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618D-486A-4FD3-80F8-A293389308C9}"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125" name="PlaceHolder 3"/>
          <p:cNvSpPr>
            <a:spLocks noGrp="1"/>
          </p:cNvSpPr>
          <p:nvPr>
            <p:ph type="dt" idx="10"/>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26" name="PlaceHolder 4"/>
          <p:cNvSpPr>
            <a:spLocks noGrp="1"/>
          </p:cNvSpPr>
          <p:nvPr>
            <p:ph type="ftr" idx="11"/>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27" name="PlaceHolder 5"/>
          <p:cNvSpPr>
            <a:spLocks noGrp="1"/>
          </p:cNvSpPr>
          <p:nvPr>
            <p:ph type="sldNum" idx="12"/>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927A-EFC6-4ABE-BD04-3E6CFF2A6D5A}"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166" name="PlaceHolder 3"/>
          <p:cNvSpPr>
            <a:spLocks noGrp="1"/>
          </p:cNvSpPr>
          <p:nvPr>
            <p:ph type="dt" idx="13"/>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67" name="PlaceHolder 4"/>
          <p:cNvSpPr>
            <a:spLocks noGrp="1"/>
          </p:cNvSpPr>
          <p:nvPr>
            <p:ph type="ftr" idx="14"/>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68" name="PlaceHolder 5"/>
          <p:cNvSpPr>
            <a:spLocks noGrp="1"/>
          </p:cNvSpPr>
          <p:nvPr>
            <p:ph type="sldNum" idx="15"/>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50A7-6495-4890-A3EB-9055698D2C10}"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07" name="PlaceHolder 3"/>
          <p:cNvSpPr>
            <a:spLocks noGrp="1"/>
          </p:cNvSpPr>
          <p:nvPr>
            <p:ph type="dt" idx="16"/>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08" name="PlaceHolder 4"/>
          <p:cNvSpPr>
            <a:spLocks noGrp="1"/>
          </p:cNvSpPr>
          <p:nvPr>
            <p:ph type="ftr" idx="17"/>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09" name="PlaceHolder 5"/>
          <p:cNvSpPr>
            <a:spLocks noGrp="1"/>
          </p:cNvSpPr>
          <p:nvPr>
            <p:ph type="sldNum" idx="18"/>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9A2E-4EA2-44FD-8F52-2623A5E13E2A}"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48" name="PlaceHolder 3"/>
          <p:cNvSpPr>
            <a:spLocks noGrp="1"/>
          </p:cNvSpPr>
          <p:nvPr>
            <p:ph type="dt" idx="19"/>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49" name="PlaceHolder 4"/>
          <p:cNvSpPr>
            <a:spLocks noGrp="1"/>
          </p:cNvSpPr>
          <p:nvPr>
            <p:ph type="ftr" idx="20"/>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50" name="PlaceHolder 5"/>
          <p:cNvSpPr>
            <a:spLocks noGrp="1"/>
          </p:cNvSpPr>
          <p:nvPr>
            <p:ph type="sldNum" idx="21"/>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C6FA-2F49-48B0-B580-35668F6AB356}"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89" name="PlaceHolder 3"/>
          <p:cNvSpPr>
            <a:spLocks noGrp="1"/>
          </p:cNvSpPr>
          <p:nvPr>
            <p:ph type="dt" idx="22"/>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90" name="PlaceHolder 4"/>
          <p:cNvSpPr>
            <a:spLocks noGrp="1"/>
          </p:cNvSpPr>
          <p:nvPr>
            <p:ph type="ftr" idx="23"/>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91" name="PlaceHolder 5"/>
          <p:cNvSpPr>
            <a:spLocks noGrp="1"/>
          </p:cNvSpPr>
          <p:nvPr>
            <p:ph type="sldNum" idx="24"/>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64E3-FDBE-45B0-9E33-86E8475362BF}"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330" name="PlaceHolder 3"/>
          <p:cNvSpPr>
            <a:spLocks noGrp="1"/>
          </p:cNvSpPr>
          <p:nvPr>
            <p:ph type="dt" idx="25"/>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31" name="PlaceHolder 4"/>
          <p:cNvSpPr>
            <a:spLocks noGrp="1"/>
          </p:cNvSpPr>
          <p:nvPr>
            <p:ph type="ftr" idx="26"/>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32" name="PlaceHolder 5"/>
          <p:cNvSpPr>
            <a:spLocks noGrp="1"/>
          </p:cNvSpPr>
          <p:nvPr>
            <p:ph type="sldNum" idx="27"/>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A935-A084-46E5-BD21-B82E0FCB7D58}"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23640" y="1796760"/>
            <a:ext cx="5832360" cy="211284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200" spc="-1" strike="noStrike">
                <a:solidFill>
                  <a:srgbClr val="12175d"/>
                </a:solidFill>
                <a:latin typeface="Bitter Bold"/>
              </a:rPr>
              <a:t>Comhairliúchán ar Ghearrchúrsa an CO (Corpoideachas)</a:t>
            </a:r>
            <a:endParaRPr b="0" lang="en-US" sz="3200" spc="-1" strike="noStrike">
              <a:solidFill>
                <a:srgbClr val="12175d"/>
              </a:solidFill>
              <a:latin typeface="Calibri"/>
            </a:endParaRPr>
          </a:p>
        </p:txBody>
      </p:sp>
      <p:pic>
        <p:nvPicPr>
          <p:cNvPr id="500" name="Picture 1" descr=""/>
          <p:cNvPicPr/>
          <p:nvPr/>
        </p:nvPicPr>
        <p:blipFill>
          <a:blip r:embed="rId1"/>
          <a:srcRect l="19758" t="20625" r="19802" b="7559"/>
          <a:stretch/>
        </p:blipFill>
        <p:spPr>
          <a:xfrm>
            <a:off x="4802040" y="314280"/>
            <a:ext cx="3399120" cy="543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 descr=""/>
          <p:cNvPicPr/>
          <p:nvPr/>
        </p:nvPicPr>
        <p:blipFill>
          <a:blip r:embed="rId1"/>
          <a:stretch/>
        </p:blipFill>
        <p:spPr>
          <a:xfrm>
            <a:off x="1979640" y="1341360"/>
            <a:ext cx="56214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95280" y="1701720"/>
            <a:ext cx="4681440" cy="4127760"/>
          </a:xfrm>
          <a:prstGeom prst="rect">
            <a:avLst/>
          </a:prstGeom>
          <a:noFill/>
          <a:ln w="0">
            <a:noFill/>
          </a:ln>
        </p:spPr>
        <p:txBody>
          <a:bodyPr anchor="t">
            <a:normAutofit/>
          </a:bodyPr>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Tuairim is 100 uair foghlama</a:t>
            </a:r>
            <a:endParaRPr b="0" lang="en-US" sz="2400" spc="-1" strike="noStrike">
              <a:solidFill>
                <a:srgbClr val="12175d"/>
              </a:solidFill>
              <a:latin typeface="Cambria"/>
            </a:endParaRPr>
          </a:p>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Arna theagasc thar 1, 2 nó 3 bliana</a:t>
            </a:r>
            <a:endParaRPr b="0" lang="en-US" sz="2400" spc="-1" strike="noStrike">
              <a:solidFill>
                <a:srgbClr val="12175d"/>
              </a:solidFill>
              <a:latin typeface="Cambria"/>
            </a:endParaRPr>
          </a:p>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Is féidir oiread le 4 ghearrchúrsa a chur san áireamh sa teastas</a:t>
            </a:r>
            <a:endParaRPr b="0" lang="en-US" sz="2400" spc="-1" strike="noStrike">
              <a:solidFill>
                <a:srgbClr val="12175d"/>
              </a:solidFill>
              <a:latin typeface="Cambria"/>
            </a:endParaRPr>
          </a:p>
        </p:txBody>
      </p:sp>
      <p:pic>
        <p:nvPicPr>
          <p:cNvPr id="502" name="Picture 10" descr=""/>
          <p:cNvPicPr/>
          <p:nvPr/>
        </p:nvPicPr>
        <p:blipFill>
          <a:blip r:embed="rId1"/>
          <a:stretch/>
        </p:blipFill>
        <p:spPr>
          <a:xfrm>
            <a:off x="5138640" y="1908000"/>
            <a:ext cx="4121280" cy="3645000"/>
          </a:xfrm>
          <a:prstGeom prst="rect">
            <a:avLst/>
          </a:prstGeom>
          <a:ln w="0">
            <a:noFill/>
          </a:ln>
        </p:spPr>
      </p:pic>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Gearrchúrsa an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Chorpoideachais</a:t>
            </a:r>
            <a:endParaRPr b="0" lang="en-US" sz="3700" spc="-1" strike="noStrike">
              <a:solidFill>
                <a:srgbClr val="12175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503520" y="274320"/>
            <a:ext cx="518328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Gearrchúrsa an Chorpoideachais</a:t>
            </a:r>
            <a:endParaRPr b="0" lang="en-US" sz="3700" spc="-1" strike="noStrike">
              <a:solidFill>
                <a:srgbClr val="12175d"/>
              </a:solidFill>
              <a:latin typeface="Calibri"/>
            </a:endParaRPr>
          </a:p>
        </p:txBody>
      </p:sp>
      <p:sp>
        <p:nvSpPr>
          <p:cNvPr id="5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06" name="TextBox 2"/>
          <p:cNvSpPr/>
          <p:nvPr/>
        </p:nvSpPr>
        <p:spPr>
          <a:xfrm>
            <a:off x="3252960" y="1844640"/>
            <a:ext cx="5567040" cy="47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2175d"/>
                </a:solidFill>
                <a:latin typeface="Bitter Bold"/>
              </a:rPr>
              <a:t>Aidhm</a:t>
            </a:r>
            <a:endParaRPr b="0" lang="en-US" sz="2000" spc="-1" strike="noStrike">
              <a:solidFill>
                <a:srgbClr val="12175d"/>
              </a:solidFill>
              <a:latin typeface="Cambria"/>
            </a:endParaRPr>
          </a:p>
          <a:p>
            <a:pPr>
              <a:lnSpc>
                <a:spcPts val="35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2175d"/>
                </a:solidFill>
                <a:latin typeface="Bitter Bold"/>
              </a:rPr>
              <a:t>Is í aidhm an ghearrchúrsa sa Chorpoideachas rannpháirtithe sciliúla agus cruthaitheacha a fhorbairt atá muiníneach agus inniúil ar réimse gníomhaíochtaí a dhéanamh.  Tá sé i gceist sa chúrsa go dtógfaí ar thuiscint scoláirí ar an tábhacht atá le feabhsú sláinte agus gníomhaíocht choirp chuimsitheach agus tiomantas ina leith anois agus san am atá le teacht. </a:t>
            </a:r>
            <a:endParaRPr b="0" lang="en-US" sz="20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175d"/>
              </a:solidFill>
              <a:latin typeface="Cambria"/>
            </a:endParaRPr>
          </a:p>
        </p:txBody>
      </p:sp>
      <p:pic>
        <p:nvPicPr>
          <p:cNvPr id="507" name="Picture 5" descr=""/>
          <p:cNvPicPr/>
          <p:nvPr/>
        </p:nvPicPr>
        <p:blipFill>
          <a:blip r:embed="rId1"/>
          <a:stretch/>
        </p:blipFill>
        <p:spPr>
          <a:xfrm>
            <a:off x="0" y="2244600"/>
            <a:ext cx="3252960" cy="330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                                </a:t>
            </a:r>
            <a:r>
              <a:rPr b="0" lang="en-IE" sz="3700" spc="-1" strike="noStrike">
                <a:solidFill>
                  <a:srgbClr val="12175d"/>
                </a:solidFill>
                <a:latin typeface="Bitter Bold"/>
              </a:rPr>
              <a:t>Léargas ar an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gCúrsa</a:t>
            </a:r>
            <a:endParaRPr b="0" lang="en-US" sz="3700" spc="-1" strike="noStrike">
              <a:solidFill>
                <a:srgbClr val="12175d"/>
              </a:solidFill>
              <a:latin typeface="Calibri"/>
            </a:endParaRPr>
          </a:p>
        </p:txBody>
      </p:sp>
      <p:pic>
        <p:nvPicPr>
          <p:cNvPr id="509" name="Content Placeholder 19467" descr=""/>
          <p:cNvPicPr/>
          <p:nvPr/>
        </p:nvPicPr>
        <p:blipFill>
          <a:blip r:embed="rId1"/>
          <a:stretch/>
        </p:blipFill>
        <p:spPr>
          <a:xfrm>
            <a:off x="3498840" y="1579680"/>
            <a:ext cx="5346720" cy="3949560"/>
          </a:xfrm>
          <a:prstGeom prst="rect">
            <a:avLst/>
          </a:prstGeom>
          <a:ln w="0">
            <a:noFill/>
          </a:ln>
        </p:spPr>
      </p:pic>
      <p:pic>
        <p:nvPicPr>
          <p:cNvPr id="510" name="Picture 5" descr=""/>
          <p:cNvPicPr/>
          <p:nvPr/>
        </p:nvPicPr>
        <p:blipFill>
          <a:blip r:embed="rId2"/>
          <a:stretch/>
        </p:blipFill>
        <p:spPr>
          <a:xfrm>
            <a:off x="174600" y="2100240"/>
            <a:ext cx="3446640" cy="33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1" name=""/>
          <p:cNvGraphicFramePr/>
          <p:nvPr/>
        </p:nvGraphicFramePr>
        <p:xfrm>
          <a:off x="1523880" y="1397160"/>
          <a:ext cx="6096240" cy="3382920"/>
        </p:xfrm>
        <a:graphic>
          <a:graphicData uri="http://schemas.openxmlformats.org/drawingml/2006/table">
            <a:tbl>
              <a:tblPr/>
              <a:tblGrid>
                <a:gridCol w="2184480"/>
                <a:gridCol w="3911760"/>
              </a:tblGrid>
              <a:tr h="338580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1 </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Rannpháirtíocht agus Dul chun cinn</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aí Lúthchleasaíochta</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Uiscío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luichí ar chúirt roinnte</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luichí ionraid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Buaic-imea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2" name=""/>
          <p:cNvGraphicFramePr/>
          <p:nvPr/>
        </p:nvGraphicFramePr>
        <p:xfrm>
          <a:off x="1523880" y="1397160"/>
          <a:ext cx="6096240" cy="2895480"/>
        </p:xfrm>
        <a:graphic>
          <a:graphicData uri="http://schemas.openxmlformats.org/drawingml/2006/table">
            <a:tbl>
              <a:tblPr/>
              <a:tblGrid>
                <a:gridCol w="2184480"/>
                <a:gridCol w="3911760"/>
              </a:tblGrid>
              <a:tr h="289548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2</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 choirp don tsláinte agus don fholláine  </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cur le m’aclaío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tomhas m’aclaíochta</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 choirp do chác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 name=""/>
          <p:cNvGraphicFramePr/>
          <p:nvPr/>
        </p:nvGraphicFramePr>
        <p:xfrm>
          <a:off x="1523880" y="1397160"/>
          <a:ext cx="6096240" cy="2392200"/>
        </p:xfrm>
        <a:graphic>
          <a:graphicData uri="http://schemas.openxmlformats.org/drawingml/2006/table">
            <a:tbl>
              <a:tblPr/>
              <a:tblGrid>
                <a:gridCol w="2184480"/>
                <a:gridCol w="3911760"/>
              </a:tblGrid>
              <a:tr h="239220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3</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Eachtraíocht agus Obair foirne</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Treodóirea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Dúshláin Foirne</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n Dúshlán deiridh</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
          <p:cNvGraphicFramePr/>
          <p:nvPr/>
        </p:nvGraphicFramePr>
        <p:xfrm>
          <a:off x="1258920" y="1397160"/>
          <a:ext cx="6626160" cy="3111480"/>
        </p:xfrm>
        <a:graphic>
          <a:graphicData uri="http://schemas.openxmlformats.org/drawingml/2006/table">
            <a:tbl>
              <a:tblPr/>
              <a:tblGrid>
                <a:gridCol w="2217600"/>
                <a:gridCol w="4408560"/>
              </a:tblGrid>
              <a:tr h="311148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4</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ruthaitheacht agus taibhiú </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Stíleanna agus téamaí a iniúchad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Taibhiú a chruthú</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Machnamh ar thaibhiú</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taibhiú</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ounded Rectangle 10"/>
          <p:cNvSpPr/>
          <p:nvPr/>
        </p:nvSpPr>
        <p:spPr>
          <a:xfrm>
            <a:off x="1547640" y="3524400"/>
            <a:ext cx="5977080" cy="1441440"/>
          </a:xfrm>
          <a:prstGeom prst="roundRect">
            <a:avLst>
              <a:gd name="adj" fmla="val 16667"/>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16" name="Rounded Rectangle 9"/>
          <p:cNvSpPr/>
          <p:nvPr/>
        </p:nvSpPr>
        <p:spPr>
          <a:xfrm>
            <a:off x="1547640" y="1717560"/>
            <a:ext cx="5977080" cy="1440000"/>
          </a:xfrm>
          <a:prstGeom prst="roundRect">
            <a:avLst>
              <a:gd name="adj" fmla="val 16667"/>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17" name="Title 1"/>
          <p:cNvSpPr/>
          <p:nvPr/>
        </p:nvSpPr>
        <p:spPr>
          <a:xfrm>
            <a:off x="395280" y="452520"/>
            <a:ext cx="82296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700" spc="-1" strike="noStrike">
                <a:solidFill>
                  <a:srgbClr val="12175d"/>
                </a:solidFill>
                <a:latin typeface="Bitter Bold"/>
              </a:rPr>
              <a:t>                              </a:t>
            </a:r>
            <a:r>
              <a:rPr b="0" lang="en-IE" sz="3700" spc="-1" strike="noStrike">
                <a:solidFill>
                  <a:srgbClr val="12175d"/>
                </a:solidFill>
                <a:latin typeface="Bitter Bold"/>
              </a:rPr>
              <a:t>Measúnú</a:t>
            </a:r>
            <a:endParaRPr b="0" lang="en-US" sz="3700" spc="-1" strike="noStrike">
              <a:solidFill>
                <a:srgbClr val="12175d"/>
              </a:solidFill>
              <a:latin typeface="Cambria"/>
            </a:endParaRPr>
          </a:p>
        </p:txBody>
      </p:sp>
      <p:sp>
        <p:nvSpPr>
          <p:cNvPr id="518" name="TextBox 1"/>
          <p:cNvSpPr/>
          <p:nvPr/>
        </p:nvSpPr>
        <p:spPr>
          <a:xfrm>
            <a:off x="2987640" y="2025720"/>
            <a:ext cx="453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2175d"/>
                </a:solidFill>
                <a:latin typeface="Bitter Bold"/>
              </a:rPr>
              <a:t>	</a:t>
            </a:r>
            <a:r>
              <a:rPr b="0" lang="en-IE" sz="3200" spc="-1" strike="noStrike">
                <a:solidFill>
                  <a:srgbClr val="12175d"/>
                </a:solidFill>
                <a:latin typeface="Bitter Bold"/>
              </a:rPr>
              <a:t>Tasc taibhithe</a:t>
            </a: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2175d"/>
                </a:solidFill>
                <a:latin typeface="Bitter Bold"/>
              </a:rPr>
              <a:t>Próifíl phearsanta ghníomhaíocht choirp </a:t>
            </a: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p:txBody>
      </p:sp>
      <p:pic>
        <p:nvPicPr>
          <p:cNvPr id="519" name="Picture 1" descr=""/>
          <p:cNvPicPr/>
          <p:nvPr/>
        </p:nvPicPr>
        <p:blipFill>
          <a:blip r:embed="rId1"/>
          <a:stretch/>
        </p:blipFill>
        <p:spPr>
          <a:xfrm>
            <a:off x="1682640" y="1717560"/>
            <a:ext cx="1613160" cy="1440000"/>
          </a:xfrm>
          <a:prstGeom prst="rect">
            <a:avLst/>
          </a:prstGeom>
          <a:ln w="0">
            <a:noFill/>
          </a:ln>
        </p:spPr>
      </p:pic>
      <p:pic>
        <p:nvPicPr>
          <p:cNvPr id="520" name="Picture 3" descr=""/>
          <p:cNvPicPr/>
          <p:nvPr/>
        </p:nvPicPr>
        <p:blipFill>
          <a:blip r:embed="rId2"/>
          <a:stretch/>
        </p:blipFill>
        <p:spPr>
          <a:xfrm>
            <a:off x="1682640" y="3684600"/>
            <a:ext cx="139536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16:39:08Z</dcterms:created>
  <dc:creator>John Halbert</dc:creator>
  <dc:description/>
  <dc:language>en-US</dc:language>
  <cp:lastModifiedBy>Fred Boss</cp:lastModifiedBy>
  <dcterms:modified xsi:type="dcterms:W3CDTF">2014-01-16T12:53:14Z</dcterms:modified>
  <cp:revision>10</cp:revision>
  <dc:subject/>
  <dc:title>PE short course consultation</dc:title>
</cp:coreProperties>
</file>