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Lst>
  <p:sldSz cx="9144000" cy="6858000"/>
  <p:notesSz cx="6670675" cy="9896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0" y="0"/>
            <a:ext cx="6670800" cy="989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00"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1" name="PlaceHolder 2"/>
          <p:cNvSpPr>
            <a:spLocks noGrp="1"/>
          </p:cNvSpPr>
          <p:nvPr>
            <p:ph type="dt" idx="70"/>
          </p:nvPr>
        </p:nvSpPr>
        <p:spPr>
          <a:xfrm>
            <a:off x="3778200" y="0"/>
            <a:ext cx="28893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2" name="PlaceHolder 3"/>
          <p:cNvSpPr>
            <a:spLocks noGrp="1"/>
          </p:cNvSpPr>
          <p:nvPr>
            <p:ph type="sldImg"/>
          </p:nvPr>
        </p:nvSpPr>
        <p:spPr>
          <a:xfrm>
            <a:off x="861480" y="742680"/>
            <a:ext cx="4945320" cy="37098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503" name="PlaceHolder 4"/>
          <p:cNvSpPr>
            <a:spLocks noGrp="1"/>
          </p:cNvSpPr>
          <p:nvPr>
            <p:ph type="body"/>
          </p:nvPr>
        </p:nvSpPr>
        <p:spPr>
          <a:xfrm>
            <a:off x="666360" y="4700160"/>
            <a:ext cx="5335560" cy="445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04" name="PlaceHolder 5"/>
          <p:cNvSpPr>
            <a:spLocks noGrp="1"/>
          </p:cNvSpPr>
          <p:nvPr>
            <p:ph type="ftr" idx="71"/>
          </p:nvPr>
        </p:nvSpPr>
        <p:spPr>
          <a:xfrm>
            <a:off x="0" y="9399600"/>
            <a:ext cx="2889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5" name="PlaceHolder 6"/>
          <p:cNvSpPr>
            <a:spLocks noGrp="1"/>
          </p:cNvSpPr>
          <p:nvPr>
            <p:ph type="sldNum" idx="72"/>
          </p:nvPr>
        </p:nvSpPr>
        <p:spPr>
          <a:xfrm>
            <a:off x="3778200" y="9399600"/>
            <a:ext cx="28893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245D-460E-40AB-B2D4-97264A147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861840" y="743040"/>
            <a:ext cx="4945320" cy="3709800"/>
          </a:xfrm>
          <a:prstGeom prst="rect">
            <a:avLst/>
          </a:prstGeom>
          <a:ln w="0">
            <a:noFill/>
          </a:ln>
        </p:spPr>
      </p:sp>
      <p:sp>
        <p:nvSpPr>
          <p:cNvPr id="1528"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9"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3D1E-74CD-4FD9-A177-54E38E4911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61840" y="743040"/>
            <a:ext cx="4945320" cy="3709800"/>
          </a:xfrm>
          <a:prstGeom prst="rect">
            <a:avLst/>
          </a:prstGeom>
          <a:ln w="0">
            <a:noFill/>
          </a:ln>
        </p:spPr>
      </p:sp>
      <p:sp>
        <p:nvSpPr>
          <p:cNvPr id="1552"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Iarrfar ort anois plé a dhéanamh i do ghrúpa ar céard a shíleann tú faoi na pleananna seo. </a:t>
            </a:r>
            <a:endParaRPr b="0" lang="en-US" sz="1200" spc="-1" strike="noStrike">
              <a:solidFill>
                <a:srgbClr val="000000"/>
              </a:solidFill>
              <a:latin typeface="Calibri"/>
            </a:endParaRPr>
          </a:p>
        </p:txBody>
      </p:sp>
      <p:sp>
        <p:nvSpPr>
          <p:cNvPr id="1553"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C299-EA40-48D1-8887-3AA462121536}"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861840" y="743040"/>
            <a:ext cx="4945320" cy="3709800"/>
          </a:xfrm>
          <a:prstGeom prst="rect">
            <a:avLst/>
          </a:prstGeom>
          <a:ln w="0">
            <a:noFill/>
          </a:ln>
        </p:spPr>
      </p:sp>
      <p:sp>
        <p:nvSpPr>
          <p:cNvPr id="1531"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Mar phointe tosaigh an ghearrchúrsa seo aithnítear go dtéann daoine óga i muinín formáidí digiteacha le leanúint de na rudaí is suim leo, le teacht ar eolas agus freisin le sóisialú agus le labhairt le ché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Is é a theastaíonn an cumas chun nascleanúint a dhéanamh ar an idirlíon le muinín ar lorg eolais, breithiúnas saothoilteanach a úsáid i leith an eolais seo, agus lena linn sin bheith aireach ar do shábháilteacht féin agus ar shábháilteacht daoine eile, agus meabhrú ar na ceisteanna tábhachtacha agus tú do do chur féin in iúl agus i gcló  ar lí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Agus an réasúnaíocht sin á cur san áireamh, féachann an cúrsa seo le do chumas a fhorbairt chun an teicneolaíocht dhigiteach, na huirlisí cumarsáide agus an t-idirlíon a úsáid go cruthaitheach, go nuálach agus go sábháilte rud a chabhróidh le do chuid foghlama agus a ligfidh duit gníomhú go héifeachtach i bpobail ar líne. </a:t>
            </a:r>
            <a:endParaRPr b="0" lang="en-US" sz="1200" spc="-1" strike="noStrike">
              <a:solidFill>
                <a:srgbClr val="000000"/>
              </a:solidFill>
              <a:latin typeface="Calibri"/>
            </a:endParaRPr>
          </a:p>
        </p:txBody>
      </p:sp>
      <p:sp>
        <p:nvSpPr>
          <p:cNvPr id="1532"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5B20-1DF8-4264-AFBC-20EF8881FC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861840" y="743040"/>
            <a:ext cx="4945320" cy="3709800"/>
          </a:xfrm>
          <a:prstGeom prst="rect">
            <a:avLst/>
          </a:prstGeom>
          <a:ln w="0">
            <a:noFill/>
          </a:ln>
        </p:spPr>
      </p:sp>
      <p:sp>
        <p:nvSpPr>
          <p:cNvPr id="1534"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ea typeface="ＭＳ Ｐゴシック"/>
              </a:rPr>
              <a:t>Tá an gearrchúrsa comhdhéanta de cheithre shraith. Díríonn gach sraith ar théama difriúil agus cabhróidh an chéad chúpla sleamhnán eile leat beagán níos mó tuisceana a bheith agat ar na téamaí difriúla seo. </a:t>
            </a:r>
            <a:endParaRPr b="0" lang="en-US" sz="1200" spc="-1" strike="noStrike">
              <a:solidFill>
                <a:srgbClr val="000000"/>
              </a:solidFill>
              <a:latin typeface="Calibri"/>
            </a:endParaRPr>
          </a:p>
        </p:txBody>
      </p:sp>
      <p:sp>
        <p:nvSpPr>
          <p:cNvPr id="1535"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292E-4B2C-4232-B515-A7D252BF73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61840" y="743040"/>
            <a:ext cx="4945320" cy="3709800"/>
          </a:xfrm>
          <a:prstGeom prst="rect">
            <a:avLst/>
          </a:prstGeom>
          <a:ln w="0">
            <a:noFill/>
          </a:ln>
        </p:spPr>
      </p:sp>
      <p:sp>
        <p:nvSpPr>
          <p:cNvPr id="1537"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I Sraith 1, iniúchfaidh tú cén chaoi agus cén fáth a n-úsáidtear teicneolaíochtaí digiteacha; iniúchfaidh tú na saincheisteanna eiticiúla agus dleathacha i dtaca le meáin a íoslódáil ón idirlíon agus forbróidh tú do thuiscint ar shábháilteacht ar líne duit féin agus do dhaoine eile. </a:t>
            </a:r>
            <a:endParaRPr b="0" lang="en-US" sz="1200" spc="-1" strike="noStrike">
              <a:solidFill>
                <a:srgbClr val="000000"/>
              </a:solidFill>
              <a:latin typeface="Calibri"/>
            </a:endParaRPr>
          </a:p>
        </p:txBody>
      </p:sp>
      <p:sp>
        <p:nvSpPr>
          <p:cNvPr id="1538"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5111-44CA-4463-9C89-E3C87F411C33}"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861840" y="743040"/>
            <a:ext cx="4945320" cy="3709800"/>
          </a:xfrm>
          <a:prstGeom prst="rect">
            <a:avLst/>
          </a:prstGeom>
          <a:ln w="0">
            <a:noFill/>
          </a:ln>
        </p:spPr>
      </p:sp>
      <p:sp>
        <p:nvSpPr>
          <p:cNvPr id="1540"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I Sraith 2,  cuirfidh tú síos ar an gcaoi a bhfoilsítear téacsanna digiteacha agus a bhfeidhmeanna éagsúla; déanfaidh tú comparáid idir na dóigheanna difriúla a gcuirtear an t-eolas céanna i láthair agus foghlaimeoidh tú conas eolas a thabhairt a bhaineann le do shaol féin agus tú ag úsáid íomháineachas digiteach. </a:t>
            </a:r>
            <a:endParaRPr b="0" lang="en-US" sz="1200" spc="-1" strike="noStrike">
              <a:solidFill>
                <a:srgbClr val="000000"/>
              </a:solidFill>
              <a:latin typeface="Calibri"/>
            </a:endParaRPr>
          </a:p>
        </p:txBody>
      </p:sp>
      <p:sp>
        <p:nvSpPr>
          <p:cNvPr id="1541"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5D92-A29D-4292-993C-5A5FC888563E}"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861840" y="743040"/>
            <a:ext cx="4945320" cy="3709800"/>
          </a:xfrm>
          <a:prstGeom prst="rect">
            <a:avLst/>
          </a:prstGeom>
          <a:ln w="0">
            <a:noFill/>
          </a:ln>
        </p:spPr>
      </p:sp>
      <p:sp>
        <p:nvSpPr>
          <p:cNvPr id="1543"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Sa tSraith seo, fiosróidh tú cén chaoi a mbíonn tionchar agus éifeacht ag rogha na meán digiteach ar phatrúin tomhaltais. Breathnóidh tú freisin ar nóisean na claontachta agus an tionchair ar líne. </a:t>
            </a:r>
            <a:endParaRPr b="0" lang="en-US" sz="1200" spc="-1" strike="noStrike">
              <a:solidFill>
                <a:srgbClr val="000000"/>
              </a:solidFill>
              <a:latin typeface="Calibri"/>
            </a:endParaRPr>
          </a:p>
        </p:txBody>
      </p:sp>
      <p:sp>
        <p:nvSpPr>
          <p:cNvPr id="1544"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1D71-27D4-476E-A257-EFCD66FE8EA6}"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61840" y="743040"/>
            <a:ext cx="4945320" cy="3709800"/>
          </a:xfrm>
          <a:prstGeom prst="rect">
            <a:avLst/>
          </a:prstGeom>
          <a:ln w="0">
            <a:noFill/>
          </a:ln>
        </p:spPr>
      </p:sp>
      <p:sp>
        <p:nvSpPr>
          <p:cNvPr id="1546"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Sa tsraith dheireanach, déanfaidh tú iniúchadh ar chearta agus ar rioscaí ar líne; léireoidh tú caighdeáin agus prótacail mhaithe i dtaca le heolas a roinnt ar líne agus foghlaimeoidh tú conas rud ón idirlíon a lua agus tagairt chruinn a thabhairt ina thaobh. </a:t>
            </a:r>
            <a:endParaRPr b="0" lang="en-US" sz="1200" spc="-1" strike="noStrike">
              <a:solidFill>
                <a:srgbClr val="000000"/>
              </a:solidFill>
              <a:latin typeface="Calibri"/>
            </a:endParaRPr>
          </a:p>
        </p:txBody>
      </p:sp>
      <p:sp>
        <p:nvSpPr>
          <p:cNvPr id="1547"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3646-0C20-4D42-A68A-EE609F5FE6B7}"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861840" y="743040"/>
            <a:ext cx="4945320" cy="3709800"/>
          </a:xfrm>
          <a:prstGeom prst="rect">
            <a:avLst/>
          </a:prstGeom>
          <a:ln w="0">
            <a:noFill/>
          </a:ln>
        </p:spPr>
      </p:sp>
      <p:sp>
        <p:nvSpPr>
          <p:cNvPr id="1549"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Is meascán iad na tascanna measúnaithe atáthar a mholadh don Chúrsa sna Meáin Dhigiteacha de thascanna measúnaithe leanúnacha i gcumhdach saothair digiteach agus tasc saoránachta digití.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Tá samplaí ann de thascanna measúnaithe leanúnacha atá solúbtha ina ndearadh le ligean duitse agus do do múinteoir na tascanna a chur in eagar agus bhur gcuid tascanna féin a chruthú.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Beidh trí dhéantán sa chumhdach saothair a thiocfaidh ó shraitheanna  1, 2 nó 3.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Tá an machnamh sa tsaoránacht dhigiteach dírithe ar tú féin bheith feasach ar do shábháilteacht agus d’fholláine féin i bpobal agus i líonra ar líne, agus tú meabhrú ar bheith freagrach agus measúil ar líne. </a:t>
            </a:r>
            <a:endParaRPr b="0" lang="en-US" sz="1200" spc="-1" strike="noStrike">
              <a:solidFill>
                <a:srgbClr val="000000"/>
              </a:solidFill>
              <a:latin typeface="Calibri"/>
            </a:endParaRPr>
          </a:p>
        </p:txBody>
      </p:sp>
      <p:sp>
        <p:nvSpPr>
          <p:cNvPr id="1550"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7E96-202F-431C-9C70-C737AC3394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3CBFB-8AAD-42E3-82B0-ADC8BA4E15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
          </p:nvPr>
        </p:nvSpPr>
        <p:spPr/>
        <p:txBody>
          <a:bodyPr/>
          <a:p>
            <a:fld id="{FF321F44-76FE-40C6-92AF-E4E3B0CB625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1"/>
          </p:nvPr>
        </p:nvSpPr>
        <p:spPr/>
        <p:txBody>
          <a:bodyPr/>
          <a:p>
            <a:fld id="{C5C99C1A-2E1A-4CF7-880C-B4D494CF6CB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11"/>
          </p:nvPr>
        </p:nvSpPr>
        <p:spPr/>
        <p:txBody>
          <a:bodyPr/>
          <a:p>
            <a:fld id="{DB3E64FF-75BA-4986-80A8-66F092C664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11"/>
          </p:nvPr>
        </p:nvSpPr>
        <p:spPr/>
        <p:txBody>
          <a:bodyPr/>
          <a:p>
            <a:fld id="{120A402A-BCA1-45D3-BB79-7F448EB16F0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1"/>
          </p:nvPr>
        </p:nvSpPr>
        <p:spPr/>
        <p:txBody>
          <a:bodyPr/>
          <a:p>
            <a:fld id="{A6225C15-324F-4788-98E1-5F50106160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1"/>
          </p:nvPr>
        </p:nvSpPr>
        <p:spPr/>
        <p:txBody>
          <a:bodyPr/>
          <a:p>
            <a:fld id="{6C66BD83-5C7D-4960-94E8-5ADFE68007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1"/>
          </p:nvPr>
        </p:nvSpPr>
        <p:spPr/>
        <p:txBody>
          <a:bodyPr/>
          <a:p>
            <a:fld id="{8225768C-758A-4CF3-AB42-2A4CA40596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1"/>
          </p:nvPr>
        </p:nvSpPr>
        <p:spPr/>
        <p:txBody>
          <a:bodyPr/>
          <a:p>
            <a:fld id="{30CC956A-BFAD-414F-B43E-B6F7B51833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11"/>
          </p:nvPr>
        </p:nvSpPr>
        <p:spPr/>
        <p:txBody>
          <a:bodyPr/>
          <a:p>
            <a:fld id="{CC076847-A40D-4897-8917-A2A3C3B214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11"/>
          </p:nvPr>
        </p:nvSpPr>
        <p:spPr/>
        <p:txBody>
          <a:bodyPr/>
          <a:p>
            <a:fld id="{FF1A78E3-169E-4945-8A05-6D1F77B466D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816D2EB-EB37-415A-B74F-E8A82087D8C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1"/>
          </p:nvPr>
        </p:nvSpPr>
        <p:spPr/>
        <p:txBody>
          <a:bodyPr/>
          <a:p>
            <a:fld id="{D2B5DC57-EE93-480F-9087-565028CE684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599D27-0197-4B37-981F-0DE16A428C5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4324BED-EF97-40E1-89E9-D2F70A7ADED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89926DC-9042-4200-A432-9C11728CC2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3F7CBF-0F00-433D-91AE-A9D331CC10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58AF14-E6D7-4A3A-8DAA-F8668C6FBBD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5FE820-A1EA-4BD4-A48E-FE7FDEAE136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06E73E-BB0E-4084-AD13-0C8BEE8193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B775558-8E9C-45DC-A48E-FCA4D4548E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459A44-B3F3-4B79-A8B8-8532C156A1A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5FBB27B-8C30-4918-9431-424116A29B7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1"/>
          </p:nvPr>
        </p:nvSpPr>
        <p:spPr/>
        <p:txBody>
          <a:bodyPr/>
          <a:p>
            <a:fld id="{589368BA-079A-420C-A20F-DC27FDC6BDB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6506897-C834-4B8C-9F75-CD2E8104E39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F459EAB-68DE-4FEB-AD07-CFD52B1B060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F987A5D-EC3C-4456-97F4-ED45023B6AF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FD10DD1-33D6-4FFF-972E-14DF622DC8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021FE72-C60E-4E26-8245-03CA3F5CBBB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10AA1A0-1EC1-4241-A777-896EF1F6303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1723EDE-E12C-4AE9-A2CA-43F818C9E88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0F24A4A-87FD-42B4-9B7B-2B404BBAE7D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B19F0DF-949A-4E7A-A159-3F93FD08D9C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572BC6C-0A89-4B2D-AE28-5A19DD08F5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3D922F8-8CA1-4B03-A63B-4A1F21FF3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78AD60D-7917-4414-BDD1-FD25FAA9BA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E6D80B9-A53D-4083-8B80-93737B4EDBC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EA9B7DE-8A20-4867-AC42-9E91831A7BA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874DDDF-E018-4F8E-AD5A-D163AD40CA2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7"/>
          </p:nvPr>
        </p:nvSpPr>
        <p:spPr/>
        <p:txBody>
          <a:bodyPr/>
          <a:p>
            <a:fld id="{E3BEDDCF-E439-4840-BD80-40A4328E7C0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7"/>
          </p:nvPr>
        </p:nvSpPr>
        <p:spPr/>
        <p:txBody>
          <a:bodyPr/>
          <a:p>
            <a:fld id="{13DD51B5-D525-4B1A-BFD5-7F7843A0C95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7"/>
          </p:nvPr>
        </p:nvSpPr>
        <p:spPr/>
        <p:txBody>
          <a:bodyPr/>
          <a:p>
            <a:fld id="{3CFEE767-C8A0-4750-9B05-CE25274165F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17"/>
          </p:nvPr>
        </p:nvSpPr>
        <p:spPr/>
        <p:txBody>
          <a:bodyPr/>
          <a:p>
            <a:fld id="{2E283390-D5BE-425B-9D8E-5B1D410CA56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17"/>
          </p:nvPr>
        </p:nvSpPr>
        <p:spPr/>
        <p:txBody>
          <a:bodyPr/>
          <a:p>
            <a:fld id="{EE5890C3-CC56-4C86-88EE-FEFB2C36025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7"/>
          </p:nvPr>
        </p:nvSpPr>
        <p:spPr/>
        <p:txBody>
          <a:bodyPr/>
          <a:p>
            <a:fld id="{EE8D4BEE-357F-4FE8-8DDA-5D33220F09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71B4DB-C4FB-43BC-BB9A-B79626080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7"/>
          </p:nvPr>
        </p:nvSpPr>
        <p:spPr/>
        <p:txBody>
          <a:bodyPr/>
          <a:p>
            <a:fld id="{4AA7B371-675D-4E70-BFAB-36AEE0F694B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7"/>
          </p:nvPr>
        </p:nvSpPr>
        <p:spPr/>
        <p:txBody>
          <a:bodyPr/>
          <a:p>
            <a:fld id="{8FA89392-A8AA-47A9-9A99-DCEB9D5B8F9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7"/>
          </p:nvPr>
        </p:nvSpPr>
        <p:spPr/>
        <p:txBody>
          <a:bodyPr/>
          <a:p>
            <a:fld id="{9B376C4B-C2E5-4357-B1CF-7063CE7E2F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17"/>
          </p:nvPr>
        </p:nvSpPr>
        <p:spPr/>
        <p:txBody>
          <a:bodyPr/>
          <a:p>
            <a:fld id="{04C438B8-0A23-4666-9780-CDCB66333BB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17"/>
          </p:nvPr>
        </p:nvSpPr>
        <p:spPr/>
        <p:txBody>
          <a:bodyPr/>
          <a:p>
            <a:fld id="{EED159E5-0265-41BA-9821-80728797D46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CB70E20-A473-4BCD-94E4-E89DFA0BBF6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9280C3D-2943-4A4B-8F7C-34516EE4C5D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1FE49CF-41CF-44AC-A322-A287255F7D3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17A736B-FE1D-4ED6-878D-0F63CD0599F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F78C1CE-13D3-4D81-8658-8C5DBF9057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AF1E94-6233-4745-93F4-BF94C2F03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6438CC2-339D-4A7A-9308-3419AD1030A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72A2708-76F6-4641-AE79-0A1D2ED5A8E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F968D0-977E-4285-8B6C-B8412A1A53B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8A2C2A2-A63F-47DE-B2D4-BA61C3DF306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251048-DF97-4BC4-9F1C-5F81C8BD4D6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7215CB6-C5D9-4033-9D8C-3C2CEFAE553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4D14CC0-829E-4D21-B979-980170053C5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27343B2-9202-4C78-9403-0C601BDA5CE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965CA40-12EB-4CF9-9998-D290EFF032A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72D157B-F863-49F5-B168-457659B0D9A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E49792-7170-41C0-84E3-BB8108B9B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5F043ED-3401-468D-B36A-E3E71ECA11B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B697D73-3F82-4B22-8A94-81C85E33D1A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5DDA00A-6C21-4AE3-BBBC-FD8262B3CD4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EA34C3-06D8-4E6D-9D79-ECF8EF70A92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42CF85-0973-4534-8442-ECE3FAEAD66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F5C419C-FE5D-48FC-89FE-B2C92329B3D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F47EDA8-D161-442C-9EEE-B5F77CF6F3B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A025582-C51A-4A96-A80D-689E65B3E0B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548D03B-3608-4C67-8F42-51E53AD54C5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939BB56-7596-4D1A-B061-D4FE5156576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B68719-471D-41C8-A766-E3120FF9C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7B1A261-8A55-4F3A-AFFE-A449CE3F93A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30B4557-EF77-4428-AF21-F3ECE2537C7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6D42101-D94A-4446-9C2F-1F0FE84DE46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65367E7-1F16-476B-8A1C-39273DEED03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8698C40-05E2-4D36-9859-89B6660A158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AEDC436-D981-414A-AEAD-B3967DF0949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90E1064-4148-4F49-8517-A252D9E6075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9DA7455-00D6-46E1-8142-D8FA0BBC8E5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300B067-B127-47D7-B357-DB612B1403D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783DF06-082A-487D-BDF6-E2F66A5409F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A8B16A-68FD-4D1D-9F8C-C96602AF1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7871AC0-1068-481A-8DF9-2E870EB4639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CF2E145-6F4F-4C33-AE94-E452049CD22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97EAC8D-3B3C-4331-BCBF-2CF7A13217C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2F0E36B-F535-4F14-93A9-05BEC43EA5A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1BCF507-0EF1-4A37-8160-C99A5B10BDA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609B1E6-3965-4BB3-AAA2-92D7A5A0DC7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8FD30A6-A3C5-4030-BA0C-6BA30A5768C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5E4E60E-D87F-4847-8BDD-C68833D4795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30E19CA-12CE-4EAE-917D-232B4BE11C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FF3BE6C-5B8B-4D67-9749-161BB5A97BB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BA8819-E074-46FC-B625-6D89EAF40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67F3104-F8A9-479A-ABFD-5C12B4A4AA7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AFE881C-8F93-4CB0-8B80-EC7EFB2DCFB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A30D1D8-F430-40D4-91AB-A9320F2A20D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275365B-C4BA-4638-A75A-82D898D92D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904F112-D6F9-4184-BB48-9CB3BDF16A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45FB64F-3137-4E03-AF2D-66B72AB125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2046930-227B-4786-8A98-793997F47C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A4D4882-74EC-43E4-9A51-054CE9CEF8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E559C8C-1E3D-4553-AE02-709286A8AC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CB5DD7E-287E-448F-84F7-6446DD61D9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
          </p:nvPr>
        </p:nvSpPr>
        <p:spPr/>
        <p:txBody>
          <a:bodyPr/>
          <a:p>
            <a:fld id="{4C728C21-A033-4A5D-A19F-1B41F77C02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48C503-ECC7-4FB1-88A6-B2849A3385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E7C0A2B-D685-4DF7-8A6C-128742C305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2595DA3-CF11-4667-BA80-E6C3E97D21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021386D-FB2C-4A81-A4B5-01C6154956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F888061-84A0-460F-98CA-A5B4B667E6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456E3A2-0BD8-41B1-9F90-126B024F41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4CBF3D1-C135-4645-8095-6B8F186B70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A87BCC6-5EE3-4E08-8A7E-580FA9DFD9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9219D8A-1A36-4D6F-8662-859586D4B8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7B4C965-3773-458D-85D6-DC277D6F4E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5D644AC-0CBE-4457-99CA-83FB3FB72E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0939B6-BC21-4E29-8295-3D810A57CD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7436F5F-F438-4181-985B-7733316BEE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E519DD8-5FB2-4C5E-B0B1-FC7E76A9B7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BA5EE4A-330A-4079-B1A6-E4F178B9DA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5C26BA7-287F-4B1C-AFA3-189454654C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AC5C98D-8329-41ED-A83D-B3E25CE1A7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A0FA277-BC94-4F13-B222-A3F0F68156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827E4DF-196A-43EB-BBA1-BC973676A2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128E9F1-D888-4C03-91A0-2CA7869ABC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B649BA4-B063-405C-AA2B-9F0382592D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DF4581A-DB3C-4679-B28E-D09EB419DF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5A4F02-6106-4E3A-A740-5993AAFDE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030820F-0210-4287-893D-D5981AF587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1A234FA-BB26-45E7-9187-10DD0B126A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5AE3A7C-A2A8-4C1D-A09B-3D4635B74E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4EA4FFE-86FB-4C27-AF19-1A8ABC8780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EC7127F-6710-46CE-9672-E0D407E704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3C660EE-78E7-4150-966E-1F6D7BCF5A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C5E6C99-E6BC-4EE9-AA1C-BFED164801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6619833-B644-41D9-81C9-8D0036BADD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64C582F-3AD9-4251-B748-DA707BAAE0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DC9339F-ED3D-43E0-A1A9-B1F4FAFEE2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B768F73-6CE5-4714-A6A7-E2FDBF14B0D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5F7B8EC-A0DA-4E65-B6C7-2D2979B237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80E0EA5-33A2-4411-BC34-A28E4C24D4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44648F4-5D52-4568-B536-D0C0F4F6B9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9D163D4-8283-4E10-B606-7D0BBD47EA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A6287CE-B1FC-4B44-8E22-4291F791AD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CACD7EA-C13E-4905-9ABB-B016BA3CF5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334459A-DF7C-4369-BBA7-2B7E134068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FCF5599-765E-4A6C-99C6-FD9A7BCBAF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A96AB6F-328E-4B66-845D-982439CE8A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6F8FF56-284D-4CBC-AC85-4CDE277251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90A28E1-D0AF-43A7-8F68-E85D2067B11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40E1A9F-D7FF-4A43-B3E5-41823A4C18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1825655-CFDB-411B-B545-F2B1800940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EFC8286-C6B8-4FC2-B0A1-A0AA9852DB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E65F5A6-E568-40CB-9CD6-3A10E73EA9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C4E68AE-4BE8-4606-AA8A-E9175530C3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7CB605D-7AD9-4015-9737-1EE91DE1F7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1102847-64E4-47FE-8E5E-D5FD57398E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EDC45FA-F48C-48C6-9421-E9164B2AE6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F2EA89A-8117-4652-A7F4-BEAAD52B08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E6E0438-AC09-4BC8-9281-75B8F884EC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97BF29-7816-45EA-B103-C0EBA65F516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96D5A4D-FF7B-4B89-8A9B-88B339F646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1755A76-E515-46CB-9D81-C3F231365E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47AF931-206D-4179-BB02-29C0639BE7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ED89D64-B29E-41F9-825A-115846ED3E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C797DE1-5B3E-4C69-9FD8-AFC3119858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311DF6D-A762-42E8-8FEB-8B22F40355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F25DAB7-24F1-409F-8FB0-AC2CC86D4B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6520243-62E9-49A7-B32C-926EF2B2DB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6B9B566-5038-4FA5-84A3-39345A97B3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3A6E2E9-CDBD-416B-9BA9-682A2ABFC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
          </p:nvPr>
        </p:nvSpPr>
        <p:spPr/>
        <p:txBody>
          <a:bodyPr/>
          <a:p>
            <a:fld id="{9DC7ADFF-0A51-42C6-B7DD-644C0BA2A3A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BF8F4FF-BDA9-45B4-BAE5-9C38C4E9B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A5C2199-775D-4156-BEFC-7AC8F44A03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FC8C8EE-CFDD-46C0-89BD-74D2427060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1F181B8-A7B5-4082-90DF-EAACE864AE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BD0D253-AF04-4ACB-94A1-D368DF703D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23A6B2CE-2AE3-4B25-AF00-5D46E12FDA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6BE05C9-FA51-48A9-BA2D-7C7F2E92BC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7F561DE-45C7-4F16-B85B-87F3B691F9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1C082C4-14CC-4794-8392-4FC0514085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6A3A4F0-68B1-42E7-878F-6DFC4D838F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
          </p:nvPr>
        </p:nvSpPr>
        <p:spPr/>
        <p:txBody>
          <a:bodyPr/>
          <a:p>
            <a:fld id="{A7E7D71F-F3D0-416B-AB2F-B95CB40F8BD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A42B10E-4E87-4893-84DB-C77AF68404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9821A3B-596E-4F55-A5F7-69784442A4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F50BFD6-26D4-46FC-94F5-6CB8560AE0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5A31937-13F1-486D-AB6B-427DDDEAEC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8CB7A38-09CA-4D60-85C6-B252390966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7180C70A-BC22-4678-9A55-64BA446E4E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AF8EB1B2-5008-4C29-8421-6A4CA776A7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F36D23F9-64FD-494C-863E-33A65E4D2CA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75BC002-4EBA-429A-B005-475F366F9A2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C97C350-1559-4454-A7DC-FA66008CDB6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
          </p:nvPr>
        </p:nvSpPr>
        <p:spPr/>
        <p:txBody>
          <a:bodyPr/>
          <a:p>
            <a:fld id="{EC1640E7-F681-468C-904D-1AC43998C16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72CDB78-3224-497F-B722-3E541FF3A12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9637005-323A-4BFD-920C-10E0B1A7BBB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3C6C93D-F239-481C-B9DA-4BF34777422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EA244EF-220C-4726-9B9F-7D2F8965D7C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CE52B33-B80F-456B-9BD3-6C91F8AB3DE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5DD3931-A46C-4461-82DD-F3003C1AFC9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3FF2359-9B03-4002-9C15-3BD380A5A5F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7C39E65B-54A3-4377-BAE1-2DAC2BD88319}"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DB332A41-15C4-4A07-924B-95454A98AAE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5"/>
          </p:nvPr>
        </p:nvSpPr>
        <p:spPr/>
        <p:txBody>
          <a:bodyPr/>
          <a:p>
            <a:fld id="{CF5E706F-1F35-40F1-9217-788BC8715F9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
          </p:nvPr>
        </p:nvSpPr>
        <p:spPr/>
        <p:txBody>
          <a:bodyPr/>
          <a:p>
            <a:fld id="{AE8FD8AF-3D5A-4D23-8368-143A25617A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5"/>
          </p:nvPr>
        </p:nvSpPr>
        <p:spPr/>
        <p:txBody>
          <a:bodyPr/>
          <a:p>
            <a:fld id="{8B4217F7-2D07-44CE-92DD-AE695590577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
          </p:nvPr>
        </p:nvSpPr>
        <p:spPr/>
        <p:txBody>
          <a:bodyPr/>
          <a:p>
            <a:fld id="{421AE421-B705-4319-BAFE-440EA614561C}"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
          </p:nvPr>
        </p:nvSpPr>
        <p:spPr/>
        <p:txBody>
          <a:bodyPr/>
          <a:p>
            <a:fld id="{64B41E9C-C778-494D-A362-E459BF477613}"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37DCCFD7-331B-41C8-9F07-D644AE65F6B5}"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3"/>
          </p:nvPr>
        </p:nvSpPr>
        <p:spPr/>
        <p:txBody>
          <a:bodyPr/>
          <a:p>
            <a:fld id="{A0E6C3EF-9977-45F8-8E01-33625A60FABD}"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3"/>
          </p:nvPr>
        </p:nvSpPr>
        <p:spPr/>
        <p:txBody>
          <a:bodyPr/>
          <a:p>
            <a:fld id="{7AE653BA-8FBE-4CDE-AFD6-3438424EE21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3"/>
          </p:nvPr>
        </p:nvSpPr>
        <p:spPr/>
        <p:txBody>
          <a:bodyPr/>
          <a:p>
            <a:fld id="{2FB45686-C9D7-42DD-9868-20C5D2AB67BD}"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53"/>
          </p:nvPr>
        </p:nvSpPr>
        <p:spPr/>
        <p:txBody>
          <a:bodyPr/>
          <a:p>
            <a:fld id="{CFD1334C-6006-4CBF-8E00-1BFDFC24CC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
          </p:nvPr>
        </p:nvSpPr>
        <p:spPr/>
        <p:txBody>
          <a:bodyPr/>
          <a:p>
            <a:fld id="{EFD391EA-02EA-41E3-A880-A11CD178A282}"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53"/>
          </p:nvPr>
        </p:nvSpPr>
        <p:spPr/>
        <p:txBody>
          <a:bodyPr/>
          <a:p>
            <a:fld id="{CCCED5EB-B245-4FA1-BEA5-8CA8B579E98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3"/>
          </p:nvPr>
        </p:nvSpPr>
        <p:spPr/>
        <p:txBody>
          <a:bodyPr/>
          <a:p>
            <a:fld id="{BDAFF16D-AD2D-4BD3-A107-6B4E8C9CF19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3"/>
          </p:nvPr>
        </p:nvSpPr>
        <p:spPr/>
        <p:txBody>
          <a:bodyPr/>
          <a:p>
            <a:fld id="{4C8405C5-A289-4890-ADA1-98936F55C800}"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3"/>
          </p:nvPr>
        </p:nvSpPr>
        <p:spPr/>
        <p:txBody>
          <a:bodyPr/>
          <a:p>
            <a:fld id="{04D68C27-ADC4-481A-B16C-85E6B51944FF}"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3"/>
          </p:nvPr>
        </p:nvSpPr>
        <p:spPr/>
        <p:txBody>
          <a:bodyPr/>
          <a:p>
            <a:fld id="{1D00A0EF-5046-4CA4-B698-B9A131EA07E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53"/>
          </p:nvPr>
        </p:nvSpPr>
        <p:spPr/>
        <p:txBody>
          <a:bodyPr/>
          <a:p>
            <a:fld id="{2517A83B-FFFC-4278-A921-0AF544C3B847}"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53"/>
          </p:nvPr>
        </p:nvSpPr>
        <p:spPr/>
        <p:txBody>
          <a:bodyPr/>
          <a:p>
            <a:fld id="{45E86156-C9B5-4C44-9D71-3CC4FC62F234}"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089B7BD6-2582-4404-9B35-1704B2831A3D}"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4"/>
          </p:nvPr>
        </p:nvSpPr>
        <p:spPr/>
        <p:txBody>
          <a:bodyPr/>
          <a:p>
            <a:fld id="{ABA4BA77-FFAC-4E58-9EAA-307B247E43F5}"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4"/>
          </p:nvPr>
        </p:nvSpPr>
        <p:spPr/>
        <p:txBody>
          <a:bodyPr/>
          <a:p>
            <a:fld id="{80F35C04-20DB-4F59-A511-E3BB495E63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
          </p:nvPr>
        </p:nvSpPr>
        <p:spPr/>
        <p:txBody>
          <a:bodyPr/>
          <a:p>
            <a:fld id="{C3C0ACA7-1011-4794-A4A1-B6D35F18FDB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4"/>
          </p:nvPr>
        </p:nvSpPr>
        <p:spPr/>
        <p:txBody>
          <a:bodyPr/>
          <a:p>
            <a:fld id="{84F2C86D-23E4-4D15-B823-DD8846A4DC66}"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54"/>
          </p:nvPr>
        </p:nvSpPr>
        <p:spPr/>
        <p:txBody>
          <a:bodyPr/>
          <a:p>
            <a:fld id="{BF580F82-E5EC-4AD3-B8DF-14B26573E82D}"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54"/>
          </p:nvPr>
        </p:nvSpPr>
        <p:spPr/>
        <p:txBody>
          <a:bodyPr/>
          <a:p>
            <a:fld id="{EACF5F82-4A14-43C1-A5F8-992710F1AFD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4"/>
          </p:nvPr>
        </p:nvSpPr>
        <p:spPr/>
        <p:txBody>
          <a:bodyPr/>
          <a:p>
            <a:fld id="{90D03C6A-7CBE-4A88-A687-78AE136578E0}"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4"/>
          </p:nvPr>
        </p:nvSpPr>
        <p:spPr/>
        <p:txBody>
          <a:bodyPr/>
          <a:p>
            <a:fld id="{6B1EA42E-5DFF-4833-B084-C1B84EEBF1A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4"/>
          </p:nvPr>
        </p:nvSpPr>
        <p:spPr/>
        <p:txBody>
          <a:bodyPr/>
          <a:p>
            <a:fld id="{8433D6CC-DD69-4416-AA22-29E7E30D4DB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4"/>
          </p:nvPr>
        </p:nvSpPr>
        <p:spPr/>
        <p:txBody>
          <a:bodyPr/>
          <a:p>
            <a:fld id="{9F15B272-9F03-4B23-BE38-7D3C47C72C8A}"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54"/>
          </p:nvPr>
        </p:nvSpPr>
        <p:spPr/>
        <p:txBody>
          <a:bodyPr/>
          <a:p>
            <a:fld id="{DA4DF3D7-0401-4FC7-AAF4-365370238EB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54"/>
          </p:nvPr>
        </p:nvSpPr>
        <p:spPr/>
        <p:txBody>
          <a:bodyPr/>
          <a:p>
            <a:fld id="{0063898E-EB7E-4472-A32C-8A5615826AC4}"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0C724870-5242-4912-9AAA-5C04A67555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5"/>
          </p:nvPr>
        </p:nvSpPr>
        <p:spPr/>
        <p:txBody>
          <a:bodyPr/>
          <a:p>
            <a:fld id="{F6384A4A-F15B-4AF6-B721-9D0E1875A76D}"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5"/>
          </p:nvPr>
        </p:nvSpPr>
        <p:spPr/>
        <p:txBody>
          <a:bodyPr/>
          <a:p>
            <a:fld id="{59D0FA6A-2AE2-461B-AC25-86621E99E85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5"/>
          </p:nvPr>
        </p:nvSpPr>
        <p:spPr/>
        <p:txBody>
          <a:bodyPr/>
          <a:p>
            <a:fld id="{8D2BC5EF-EA14-466A-A4CF-546ADA14C349}"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5"/>
          </p:nvPr>
        </p:nvSpPr>
        <p:spPr/>
        <p:txBody>
          <a:bodyPr/>
          <a:p>
            <a:fld id="{CF009E39-4A4C-4AEB-B33A-17CACD30E8A8}"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55"/>
          </p:nvPr>
        </p:nvSpPr>
        <p:spPr/>
        <p:txBody>
          <a:bodyPr/>
          <a:p>
            <a:fld id="{57033B17-E14D-4D91-A074-81712284405A}"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55"/>
          </p:nvPr>
        </p:nvSpPr>
        <p:spPr/>
        <p:txBody>
          <a:bodyPr/>
          <a:p>
            <a:fld id="{936A05FF-D041-4CCF-B8F1-C1243619AD0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5"/>
          </p:nvPr>
        </p:nvSpPr>
        <p:spPr/>
        <p:txBody>
          <a:bodyPr/>
          <a:p>
            <a:fld id="{BF2DE821-3A8B-4710-A82B-280D9B65D2A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5"/>
          </p:nvPr>
        </p:nvSpPr>
        <p:spPr/>
        <p:txBody>
          <a:bodyPr/>
          <a:p>
            <a:fld id="{5DC46F17-821E-4282-970C-A63557FE907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5"/>
          </p:nvPr>
        </p:nvSpPr>
        <p:spPr/>
        <p:txBody>
          <a:bodyPr/>
          <a:p>
            <a:fld id="{A3CAFFD0-9E0A-4154-ACC0-F7F388391319}"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5"/>
          </p:nvPr>
        </p:nvSpPr>
        <p:spPr/>
        <p:txBody>
          <a:bodyPr/>
          <a:p>
            <a:fld id="{F90FB54A-7EC7-41B7-8962-B8D5CD22B7F1}"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55"/>
          </p:nvPr>
        </p:nvSpPr>
        <p:spPr/>
        <p:txBody>
          <a:bodyPr/>
          <a:p>
            <a:fld id="{DC48EDE7-97C4-4406-A408-DD23B87251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5"/>
          </p:nvPr>
        </p:nvSpPr>
        <p:spPr/>
        <p:txBody>
          <a:bodyPr/>
          <a:p>
            <a:fld id="{D27F8BE1-07CF-4120-B6F6-715005ABC95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55"/>
          </p:nvPr>
        </p:nvSpPr>
        <p:spPr/>
        <p:txBody>
          <a:bodyPr/>
          <a:p>
            <a:fld id="{AA3AE57D-D721-41F1-A163-E1EF25F8128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84B4616-30E6-4173-9F73-9FB7B3B12097}"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CC69A23-AC93-41C2-BF18-A20E9CC5CE3F}"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B5241A-7EF0-4214-975A-814E79E9D1B4}"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C284B3E-9C6F-4C90-ADD4-05F0C2335085}"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B9638CD-1B91-467E-868A-FB64C38FAA02}"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603FB71-9914-4C41-A4CD-D561583D9838}"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60873E3-13AB-437C-968B-E1B36C2CA55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60AB7E6-1B6F-414F-9235-189FE71D271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F452E9-13E1-47CF-80BB-B09395BFEC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DEFB3FC-6738-489E-83E7-01A68CB7A00C}"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BD174D6-AA18-4EA9-B377-3F62127F3B7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02DB558-53AE-4E2B-BD15-9F599463DD00}"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25A228B9-1F41-4E0B-A075-869EADB13B1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8"/>
          </p:nvPr>
        </p:nvSpPr>
        <p:spPr/>
        <p:txBody>
          <a:bodyPr/>
          <a:p>
            <a:fld id="{D36879B3-8944-42C6-9FD7-0DF4265A324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8"/>
          </p:nvPr>
        </p:nvSpPr>
        <p:spPr/>
        <p:txBody>
          <a:bodyPr/>
          <a:p>
            <a:fld id="{91421755-586E-429D-9C7A-04A1537D9DA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8"/>
          </p:nvPr>
        </p:nvSpPr>
        <p:spPr/>
        <p:txBody>
          <a:bodyPr/>
          <a:p>
            <a:fld id="{27C40E90-3706-4BC1-8C9A-28EC5C47ECB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58"/>
          </p:nvPr>
        </p:nvSpPr>
        <p:spPr/>
        <p:txBody>
          <a:bodyPr/>
          <a:p>
            <a:fld id="{0571BD9A-9E91-4099-91B9-D2BDEA239471}"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58"/>
          </p:nvPr>
        </p:nvSpPr>
        <p:spPr/>
        <p:txBody>
          <a:bodyPr/>
          <a:p>
            <a:fld id="{A08E3823-DE89-4F29-93C5-C9AF946C009C}"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8"/>
          </p:nvPr>
        </p:nvSpPr>
        <p:spPr/>
        <p:txBody>
          <a:bodyPr/>
          <a:p>
            <a:fld id="{0DF096FA-60E7-4308-99C3-E32B1D125A4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8"/>
          </p:nvPr>
        </p:nvSpPr>
        <p:spPr/>
        <p:txBody>
          <a:bodyPr/>
          <a:p>
            <a:fld id="{E6AC65B7-37AC-4DB1-917C-34CA82848F63}"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8"/>
          </p:nvPr>
        </p:nvSpPr>
        <p:spPr/>
        <p:txBody>
          <a:bodyPr/>
          <a:p>
            <a:fld id="{B7CCB5C3-1374-482D-BFB0-3A9955DA479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8"/>
          </p:nvPr>
        </p:nvSpPr>
        <p:spPr/>
        <p:txBody>
          <a:bodyPr/>
          <a:p>
            <a:fld id="{50368E09-3245-4BC9-86CA-A6B7E3920D53}"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58"/>
          </p:nvPr>
        </p:nvSpPr>
        <p:spPr/>
        <p:txBody>
          <a:bodyPr/>
          <a:p>
            <a:fld id="{D2F69F6E-A9F2-40FB-ADB8-5CC2421C8B4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58"/>
          </p:nvPr>
        </p:nvSpPr>
        <p:spPr/>
        <p:txBody>
          <a:bodyPr/>
          <a:p>
            <a:fld id="{3EDE3F62-EE64-4DBD-8DD7-B43FF130D0D2}"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694F3A91-835D-48F6-80CB-EE1429613948}"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98A3F38-726E-4230-83BC-06D86BAF5E2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C3A28CF-B76B-4F35-833B-B5242A2121E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D14844B3-CAE5-499D-8D03-43CE2CF6973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43B295F5-CE6D-4DB4-91FD-0DA8F841587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F21FF9B-6BAF-46F2-B5C7-980C2D2E0AE3}"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5DF5FCF9-3403-4D0E-9F05-B3F495BB987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B838F329-2112-424F-BA7E-DD9EF81E41F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64BF5A2-842D-4A47-B77A-78B5C2CDE4A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952D98F-5180-42E2-895F-12EEA3392A4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B089AE66-78E3-4E1B-9472-5117591C2661}"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03141424-5575-4B02-941E-7AEE2A6E43E3}"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0951663-8FD6-4781-8DE7-B2FEF4ACA80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DC2FDBC-D691-4D8A-829D-83055C90E5A7}"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0EDACE9-D099-4254-8658-776CD7BF8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
          </p:nvPr>
        </p:nvSpPr>
        <p:spPr/>
        <p:txBody>
          <a:bodyPr/>
          <a:p>
            <a:fld id="{E69CDAAC-31DE-4DC3-B0E3-395A8FD6DC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8BD5E0A-5367-4A7B-8620-3437F3C15EC8}"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0FD1F26-A657-4FE3-8E31-847E91A4C47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A1F9967-B24F-4321-993A-EFF5BA571EF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ED13F36-E704-4357-B735-0F539039F73B}"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6F3A025-A394-4FF4-BC1D-210F653BA25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65FE558-BAE8-48F4-A414-FD75DEA7AAC7}"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4857D03-DD24-4C0C-ACE4-BE9165CA95B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F38FE0D-B547-41A3-8AD0-8A0DDB47411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760AC0F-E60A-43EC-9EAB-44744D7AC800}"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FEBA7C58-D7DF-4A24-B1C1-86AAD8AFBD9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64"/>
          </p:nvPr>
        </p:nvSpPr>
        <p:spPr/>
        <p:txBody>
          <a:bodyPr/>
          <a:p>
            <a:fld id="{E45CF41A-637E-48A8-821C-0F94AB0EC367}"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64"/>
          </p:nvPr>
        </p:nvSpPr>
        <p:spPr/>
        <p:txBody>
          <a:bodyPr/>
          <a:p>
            <a:fld id="{BB92CB53-562D-4DEA-8825-F26FA8088087}"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64"/>
          </p:nvPr>
        </p:nvSpPr>
        <p:spPr/>
        <p:txBody>
          <a:bodyPr/>
          <a:p>
            <a:fld id="{CEA8E468-BCB4-4AA3-878F-796850309B3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64"/>
          </p:nvPr>
        </p:nvSpPr>
        <p:spPr/>
        <p:txBody>
          <a:bodyPr/>
          <a:p>
            <a:fld id="{25ABD63E-9452-45FC-B323-2D6A9233937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64"/>
          </p:nvPr>
        </p:nvSpPr>
        <p:spPr/>
        <p:txBody>
          <a:bodyPr/>
          <a:p>
            <a:fld id="{9E620C1C-986D-46E9-AD5D-6F5D5A36227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64"/>
          </p:nvPr>
        </p:nvSpPr>
        <p:spPr/>
        <p:txBody>
          <a:bodyPr/>
          <a:p>
            <a:fld id="{E38785C6-D38A-4635-97F6-0D4B99585287}"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64"/>
          </p:nvPr>
        </p:nvSpPr>
        <p:spPr/>
        <p:txBody>
          <a:bodyPr/>
          <a:p>
            <a:fld id="{4C547F66-B2BE-4106-826D-A6D74F8517E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64"/>
          </p:nvPr>
        </p:nvSpPr>
        <p:spPr/>
        <p:txBody>
          <a:bodyPr/>
          <a:p>
            <a:fld id="{98FEF00F-9F5B-46D2-A5D0-805FC8D9CC8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64"/>
          </p:nvPr>
        </p:nvSpPr>
        <p:spPr/>
        <p:txBody>
          <a:bodyPr/>
          <a:p>
            <a:fld id="{9B438A30-0988-4630-84B7-89AC4E73AA9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64"/>
          </p:nvPr>
        </p:nvSpPr>
        <p:spPr/>
        <p:txBody>
          <a:bodyPr/>
          <a:p>
            <a:fld id="{FABC06B2-C8A7-4AF0-A0D4-74442549115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64"/>
          </p:nvPr>
        </p:nvSpPr>
        <p:spPr/>
        <p:txBody>
          <a:bodyPr/>
          <a:p>
            <a:fld id="{4D50C94D-C2FD-4C46-B1C9-C0A2B267FA8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8B41256-215A-407E-AB39-74EBB867A7F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E561FA-99FE-43BA-BF23-C4442957934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008E332-E1E0-4481-9247-CFA4CA0EB86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E5BEC05-EFBE-4B53-AD08-FB03FF7916DA}"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316A6B0-55B6-4357-93EC-B2263DB416E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8D119CE-2F35-4959-8541-9D53F5EA2D48}"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231D442-93CA-42B7-8F81-508ABBA0673B}"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AFC0AEF-3939-4DCA-86A4-28D8B17AEA7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E663CA3-6CCD-4A43-9B58-BD6A661A692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E0299AB-BEF5-4B3A-9315-CCF468CAD2F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3AAA417-7D45-414B-B392-04CEE55A6641}"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7E8D98F-2C32-45DF-A660-85AACEBC5E6C}"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97BD77F-0428-471B-8C11-C9565A7D892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918B4F8-33E9-429E-94EA-E9655F7A15B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C0037D8-9F2C-452B-8022-1BFCA36B0B5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212C8C0-877D-4BD1-A91B-357DFA5FD7A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D889716-F9CF-45AA-B5C4-A9484E0733A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001ED65-A764-4B81-8DEC-715F45E428F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B3ADEDA-B7B9-4BC6-AA8D-0D22B349C63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AE482ED-3A0B-4FA9-B3C8-C47121241DD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D691631-2FFE-473A-8915-C871C6A7827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30B7AB8-0709-45BD-996E-3D4D715CAC5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FF61CBE-9364-48CB-ADC0-79B3D71C306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FC1DEF1-6185-4777-8891-FEDB73C2EC2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827AE2-C4C4-467B-97E9-1CB1EED994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1"/>
          </p:nvPr>
        </p:nvSpPr>
        <p:spPr/>
        <p:txBody>
          <a:bodyPr/>
          <a:p>
            <a:fld id="{C5FC7E80-799D-4349-BA21-60F7B80375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6"/>
          </p:nvPr>
        </p:nvSpPr>
        <p:spPr/>
        <p:txBody>
          <a:bodyPr/>
          <a:p>
            <a:fld id="{6B1EF452-5339-4D3B-A5C7-2387452EE1A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6"/>
          </p:nvPr>
        </p:nvSpPr>
        <p:spPr/>
        <p:txBody>
          <a:bodyPr/>
          <a:p>
            <a:fld id="{00730860-F757-43B1-A1A4-DA503EE897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6"/>
          </p:nvPr>
        </p:nvSpPr>
        <p:spPr/>
        <p:txBody>
          <a:bodyPr/>
          <a:p>
            <a:fld id="{E1445B38-3CA8-406C-9E89-119802F4E5D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6"/>
          </p:nvPr>
        </p:nvSpPr>
        <p:spPr/>
        <p:txBody>
          <a:bodyPr/>
          <a:p>
            <a:fld id="{C6384A9D-6348-423B-9D40-61739E2826C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6"/>
          </p:nvPr>
        </p:nvSpPr>
        <p:spPr/>
        <p:txBody>
          <a:bodyPr/>
          <a:p>
            <a:fld id="{531E23AD-CF5C-4ACD-993E-916139BEBD6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6"/>
          </p:nvPr>
        </p:nvSpPr>
        <p:spPr/>
        <p:txBody>
          <a:bodyPr/>
          <a:p>
            <a:fld id="{74836D80-66E0-4FFD-8387-8770AFF3DB5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6"/>
          </p:nvPr>
        </p:nvSpPr>
        <p:spPr/>
        <p:txBody>
          <a:bodyPr/>
          <a:p>
            <a:fld id="{F154738C-7218-4154-90E6-97EF55953F8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6"/>
          </p:nvPr>
        </p:nvSpPr>
        <p:spPr/>
        <p:txBody>
          <a:bodyPr/>
          <a:p>
            <a:fld id="{34C82EFC-EFEC-4707-99F8-00E11102B82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6"/>
          </p:nvPr>
        </p:nvSpPr>
        <p:spPr/>
        <p:txBody>
          <a:bodyPr/>
          <a:p>
            <a:fld id="{3C7B4316-1EC7-4ADA-8991-ED5BA3C510F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6"/>
          </p:nvPr>
        </p:nvSpPr>
        <p:spPr/>
        <p:txBody>
          <a:bodyPr/>
          <a:p>
            <a:fld id="{A3C731D4-9E4A-410C-A03E-CB60E08D4C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1"/>
          </p:nvPr>
        </p:nvSpPr>
        <p:spPr/>
        <p:txBody>
          <a:bodyPr/>
          <a:p>
            <a:fld id="{FB379FE8-B889-412E-B37A-7DD689E18A5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6"/>
          </p:nvPr>
        </p:nvSpPr>
        <p:spPr/>
        <p:txBody>
          <a:bodyPr/>
          <a:p>
            <a:fld id="{E493FD38-07B3-41A7-B593-CC29146D81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911F323-BA19-4018-AE89-8445EC7E75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7"/>
          </p:nvPr>
        </p:nvSpPr>
        <p:spPr/>
        <p:txBody>
          <a:bodyPr/>
          <a:p>
            <a:fld id="{AA9F98C4-F32B-4A0B-853B-84BC59026B7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7"/>
          </p:nvPr>
        </p:nvSpPr>
        <p:spPr/>
        <p:txBody>
          <a:bodyPr/>
          <a:p>
            <a:fld id="{B9948EC7-CE64-4F00-BD81-C211060442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7"/>
          </p:nvPr>
        </p:nvSpPr>
        <p:spPr/>
        <p:txBody>
          <a:bodyPr/>
          <a:p>
            <a:fld id="{11C9CFB4-8790-43B3-8BBD-DB7572C2483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7"/>
          </p:nvPr>
        </p:nvSpPr>
        <p:spPr/>
        <p:txBody>
          <a:bodyPr/>
          <a:p>
            <a:fld id="{89C7D2C7-8BCB-4439-A00F-D68A70B0425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7"/>
          </p:nvPr>
        </p:nvSpPr>
        <p:spPr/>
        <p:txBody>
          <a:bodyPr/>
          <a:p>
            <a:fld id="{535796CA-FA58-4C22-8C5D-D6A3AA88116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7"/>
          </p:nvPr>
        </p:nvSpPr>
        <p:spPr/>
        <p:txBody>
          <a:bodyPr/>
          <a:p>
            <a:fld id="{AB193AC7-F0C8-45CD-8B90-56D30AB32A4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7"/>
          </p:nvPr>
        </p:nvSpPr>
        <p:spPr/>
        <p:txBody>
          <a:bodyPr/>
          <a:p>
            <a:fld id="{F7A3B4A6-3B74-4BC0-AB53-256160A44A9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7"/>
          </p:nvPr>
        </p:nvSpPr>
        <p:spPr/>
        <p:txBody>
          <a:bodyPr/>
          <a:p>
            <a:fld id="{91F4C653-8946-44C9-BD7E-6618135CC0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
          </p:nvPr>
        </p:nvSpPr>
        <p:spPr/>
        <p:txBody>
          <a:bodyPr/>
          <a:p>
            <a:fld id="{F4626F60-90F6-40EC-8156-4EF886CA004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7"/>
          </p:nvPr>
        </p:nvSpPr>
        <p:spPr/>
        <p:txBody>
          <a:bodyPr/>
          <a:p>
            <a:fld id="{E4917B4E-F018-4403-9762-3009FFD7CA5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7"/>
          </p:nvPr>
        </p:nvSpPr>
        <p:spPr/>
        <p:txBody>
          <a:bodyPr/>
          <a:p>
            <a:fld id="{0C78315F-CA59-4B6D-B7BE-30CFB680896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7"/>
          </p:nvPr>
        </p:nvSpPr>
        <p:spPr/>
        <p:txBody>
          <a:bodyPr/>
          <a:p>
            <a:fld id="{70866D75-1ED3-475E-BE8C-C638C90331C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0BAC03B-5F58-48C1-9247-293C7CD66EB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8"/>
          </p:nvPr>
        </p:nvSpPr>
        <p:spPr/>
        <p:txBody>
          <a:bodyPr/>
          <a:p>
            <a:fld id="{DD7E9BC5-E5CD-4BE5-B865-954819D9216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8"/>
          </p:nvPr>
        </p:nvSpPr>
        <p:spPr/>
        <p:txBody>
          <a:bodyPr/>
          <a:p>
            <a:fld id="{FB63C8E8-8C2F-4068-AA04-A4AEAEE49FC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8"/>
          </p:nvPr>
        </p:nvSpPr>
        <p:spPr/>
        <p:txBody>
          <a:bodyPr/>
          <a:p>
            <a:fld id="{55F7EEB0-E2F6-4D83-AE96-9502223BF89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8"/>
          </p:nvPr>
        </p:nvSpPr>
        <p:spPr/>
        <p:txBody>
          <a:bodyPr/>
          <a:p>
            <a:fld id="{F321A6DF-A740-4CCA-AD17-F466F928C4F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8"/>
          </p:nvPr>
        </p:nvSpPr>
        <p:spPr/>
        <p:txBody>
          <a:bodyPr/>
          <a:p>
            <a:fld id="{7C2D6A47-51E9-4785-820A-562AE657ECD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8"/>
          </p:nvPr>
        </p:nvSpPr>
        <p:spPr/>
        <p:txBody>
          <a:bodyPr/>
          <a:p>
            <a:fld id="{7EF9D30B-9AE3-48D1-B200-F94FC121EB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
          </p:nvPr>
        </p:nvSpPr>
        <p:spPr/>
        <p:txBody>
          <a:bodyPr/>
          <a:p>
            <a:fld id="{825A6717-E4C7-4F81-A511-0375C8F9F8F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8"/>
          </p:nvPr>
        </p:nvSpPr>
        <p:spPr/>
        <p:txBody>
          <a:bodyPr/>
          <a:p>
            <a:fld id="{ECC1D097-5381-4CF8-9D67-13E83E2E8BB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8"/>
          </p:nvPr>
        </p:nvSpPr>
        <p:spPr/>
        <p:txBody>
          <a:bodyPr/>
          <a:p>
            <a:fld id="{B0C11161-12A4-4F21-8451-3CA0D7E76B1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8"/>
          </p:nvPr>
        </p:nvSpPr>
        <p:spPr/>
        <p:txBody>
          <a:bodyPr/>
          <a:p>
            <a:fld id="{D1461F94-6C8E-42EA-840A-5C497D71ABF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8"/>
          </p:nvPr>
        </p:nvSpPr>
        <p:spPr/>
        <p:txBody>
          <a:bodyPr/>
          <a:p>
            <a:fld id="{48BF4DBC-5CFF-4393-A6F9-741860B8BAE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8"/>
          </p:nvPr>
        </p:nvSpPr>
        <p:spPr/>
        <p:txBody>
          <a:bodyPr/>
          <a:p>
            <a:fld id="{BAAF9D58-8A02-4F82-83AE-AD0334BF0EB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84BEDAD-AF89-4A12-9AF4-B3C5138E063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5DCC2F9-4094-43A2-8142-DD666042FDF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5D50F36-02F1-441F-9707-673B2CABE8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531C9E9-CCE6-43D8-8E99-11817A20E3F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FF4FD9F-A263-4267-A193-B5F5D192E6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
          </p:nvPr>
        </p:nvSpPr>
        <p:spPr/>
        <p:txBody>
          <a:bodyPr/>
          <a:p>
            <a:fld id="{FD4BFB67-BD5D-450C-BA75-214CEC15B75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A3DB3CA-FE6E-4605-8611-C6C6B44D07D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B5F149-250A-483E-8659-0502D24DE85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B7F430C-A9B6-4013-B8E2-A5A02996CC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D187784-F9EB-4253-B058-3B197876B58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4E093E9-C58F-49C4-A50D-546CB27C5AB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D47A2C0-E83A-4BEC-A79F-A3F06B7E610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8ED8E88-71A2-4943-9865-663137D01A8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46C36B0-F5F1-49E8-B411-112B9066DA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1"/>
          </p:nvPr>
        </p:nvSpPr>
        <p:spPr/>
        <p:txBody>
          <a:bodyPr/>
          <a:p>
            <a:fld id="{AB679B08-FBE8-41CB-8A83-02E14DBED0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1"/>
          </p:nvPr>
        </p:nvSpPr>
        <p:spPr/>
        <p:txBody>
          <a:bodyPr/>
          <a:p>
            <a:fld id="{2D2BB5AE-0DDB-49FC-81A6-BDEC9DE6C5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2" name="PlaceHolder 3"/>
          <p:cNvSpPr>
            <a:spLocks noGrp="1"/>
          </p:cNvSpPr>
          <p:nvPr>
            <p:ph type="sldNum" idx="1"/>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F809-C513-4A0F-99E2-546F11B5BC9D}"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35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4"/>
          <p:cNvSpPr>
            <a:spLocks noGrp="1"/>
          </p:cNvSpPr>
          <p:nvPr>
            <p:ph type="ftr" idx="13"/>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PlaceHolder 5"/>
          <p:cNvSpPr>
            <a:spLocks noGrp="1"/>
          </p:cNvSpPr>
          <p:nvPr>
            <p:ph type="sldNum" idx="14"/>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4FF4-54F2-4BA5-A1A0-F17EF7C9E3DF}"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398" name="PlaceHolder 3"/>
          <p:cNvSpPr>
            <a:spLocks noGrp="1"/>
          </p:cNvSpPr>
          <p:nvPr>
            <p:ph type="ftr" idx="15"/>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PlaceHolder 4"/>
          <p:cNvSpPr>
            <a:spLocks noGrp="1"/>
          </p:cNvSpPr>
          <p:nvPr>
            <p:ph type="sldNum" idx="16"/>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77DA-DA9B-4074-9A6F-5316F5CEA60B}"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4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438" name="PlaceHolder 3"/>
          <p:cNvSpPr>
            <a:spLocks noGrp="1"/>
          </p:cNvSpPr>
          <p:nvPr>
            <p:ph type="sldNum" idx="17"/>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B9AB-143C-46CF-974D-AEDE80560AFE}"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477" name="PlaceHolder 3"/>
          <p:cNvSpPr>
            <a:spLocks noGrp="1"/>
          </p:cNvSpPr>
          <p:nvPr>
            <p:ph type="ftr" idx="18"/>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PlaceHolder 4"/>
          <p:cNvSpPr>
            <a:spLocks noGrp="1"/>
          </p:cNvSpPr>
          <p:nvPr>
            <p:ph type="sldNum" idx="19"/>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4946-9568-48D6-A7D8-BF8F119749B9}"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7"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8"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D03F-5922-4675-BF64-012330133C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5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45A2-45F6-48F7-BA7F-182DF1DA69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9"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00"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5965-6A50-456D-9A88-C7689AFA0C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0"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41"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9BDF-2303-4DCE-8F85-1525344E69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1"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82"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744F-57BC-4401-8F2A-AF46F2EB4C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2"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23"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16FE-7820-47EB-8E8E-EAA0D4597E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DD9B0-F742-4F27-A520-4678E3FCD7D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3"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64"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7BD1-0B07-46B2-9780-DBD9DE60C1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4"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05"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6"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0977-4BD1-48F6-8E95-F419F3ED60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5"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6"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0DE7-6AC9-4268-B22D-2C1C33CD276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6"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87"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849D-73F6-4D1C-87AC-E0918F32FF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7"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28"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02E2-F113-4586-A0E6-9BAAEA0FF0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42" name="Picture 2" descr=""/>
          <p:cNvPicPr/>
          <p:nvPr/>
        </p:nvPicPr>
        <p:blipFill>
          <a:blip r:embed="rId3"/>
          <a:stretch/>
        </p:blipFill>
        <p:spPr>
          <a:xfrm>
            <a:off x="3592440" y="6291360"/>
            <a:ext cx="1495440" cy="549000"/>
          </a:xfrm>
          <a:prstGeom prst="rect">
            <a:avLst/>
          </a:prstGeom>
          <a:ln w="0">
            <a:noFill/>
          </a:ln>
        </p:spPr>
      </p:pic>
      <p:pic>
        <p:nvPicPr>
          <p:cNvPr id="1043" name="Picture 2" descr=""/>
          <p:cNvPicPr/>
          <p:nvPr/>
        </p:nvPicPr>
        <p:blipFill>
          <a:blip r:embed="rId4"/>
          <a:stretch/>
        </p:blipFill>
        <p:spPr>
          <a:xfrm>
            <a:off x="0" y="0"/>
            <a:ext cx="9144000" cy="6840360"/>
          </a:xfrm>
          <a:prstGeom prst="rect">
            <a:avLst/>
          </a:prstGeom>
          <a:ln w="0">
            <a:noFill/>
          </a:ln>
        </p:spPr>
      </p:pic>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0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82" name="Picture 2" descr=""/>
          <p:cNvPicPr/>
          <p:nvPr/>
        </p:nvPicPr>
        <p:blipFill>
          <a:blip r:embed="rId3"/>
          <a:stretch/>
        </p:blipFill>
        <p:spPr>
          <a:xfrm>
            <a:off x="3592440" y="6291360"/>
            <a:ext cx="1495440" cy="549000"/>
          </a:xfrm>
          <a:prstGeom prst="rect">
            <a:avLst/>
          </a:prstGeom>
          <a:ln w="0">
            <a:noFill/>
          </a:ln>
        </p:spPr>
      </p:pic>
      <p:pic>
        <p:nvPicPr>
          <p:cNvPr id="1083" name="Picture 2" descr=""/>
          <p:cNvPicPr/>
          <p:nvPr/>
        </p:nvPicPr>
        <p:blipFill>
          <a:blip r:embed="rId4"/>
          <a:stretch/>
        </p:blipFill>
        <p:spPr>
          <a:xfrm>
            <a:off x="0" y="0"/>
            <a:ext cx="9144000" cy="6840360"/>
          </a:xfrm>
          <a:prstGeom prst="rect">
            <a:avLst/>
          </a:prstGeom>
          <a:ln w="0">
            <a:noFill/>
          </a:ln>
        </p:spPr>
      </p:pic>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0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086" name="PlaceHolder 3"/>
          <p:cNvSpPr>
            <a:spLocks noGrp="1"/>
          </p:cNvSpPr>
          <p:nvPr>
            <p:ph type="sldNum" idx="53"/>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3267-8187-45A0-AE92-68163217E3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23" name="Picture 2" descr=""/>
          <p:cNvPicPr/>
          <p:nvPr/>
        </p:nvPicPr>
        <p:blipFill>
          <a:blip r:embed="rId3"/>
          <a:stretch/>
        </p:blipFill>
        <p:spPr>
          <a:xfrm>
            <a:off x="3592440" y="6291360"/>
            <a:ext cx="1495440" cy="549000"/>
          </a:xfrm>
          <a:prstGeom prst="rect">
            <a:avLst/>
          </a:prstGeom>
          <a:ln w="0">
            <a:noFill/>
          </a:ln>
        </p:spPr>
      </p:pic>
      <p:pic>
        <p:nvPicPr>
          <p:cNvPr id="1124" name="Picture 2" descr=""/>
          <p:cNvPicPr/>
          <p:nvPr/>
        </p:nvPicPr>
        <p:blipFill>
          <a:blip r:embed="rId4"/>
          <a:stretch/>
        </p:blipFill>
        <p:spPr>
          <a:xfrm>
            <a:off x="0" y="0"/>
            <a:ext cx="9144000" cy="6840360"/>
          </a:xfrm>
          <a:prstGeom prst="rect">
            <a:avLst/>
          </a:prstGeom>
          <a:ln w="0">
            <a:noFill/>
          </a:ln>
        </p:spPr>
      </p:pic>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127" name="PlaceHolder 3"/>
          <p:cNvSpPr>
            <a:spLocks noGrp="1"/>
          </p:cNvSpPr>
          <p:nvPr>
            <p:ph type="sldNum" idx="54"/>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80F7-1C10-4524-9A5C-44308B443F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82" name="PlaceHolder 3"/>
          <p:cNvSpPr>
            <a:spLocks noGrp="1"/>
          </p:cNvSpPr>
          <p:nvPr>
            <p:ph type="sldNum" idx="5"/>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4C59-4FF3-427D-8CEF-1BA97BF38D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83" name="Picture 2" descr=""/>
          <p:cNvPicPr/>
          <p:nvPr/>
        </p:nvPicPr>
        <p:blipFill>
          <a:blip r:embed="rId3"/>
          <a:stretch/>
        </p:blipFill>
        <p:spPr>
          <a:xfrm>
            <a:off x="3592440" y="6291360"/>
            <a:ext cx="1495440" cy="549000"/>
          </a:xfrm>
          <a:prstGeom prst="rect">
            <a:avLst/>
          </a:prstGeom>
          <a:ln w="0">
            <a:noFill/>
          </a:ln>
        </p:spPr>
      </p:pic>
      <p:pic>
        <p:nvPicPr>
          <p:cNvPr id="84" name="Picture 2" descr=""/>
          <p:cNvPicPr/>
          <p:nvPr/>
        </p:nvPicPr>
        <p:blipFill>
          <a:blip r:embed="rId4"/>
          <a:stretch/>
        </p:blipFill>
        <p:spPr>
          <a:xfrm>
            <a:off x="0" y="0"/>
            <a:ext cx="9144000" cy="68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64" name="Picture 2" descr=""/>
          <p:cNvPicPr/>
          <p:nvPr/>
        </p:nvPicPr>
        <p:blipFill>
          <a:blip r:embed="rId3"/>
          <a:stretch/>
        </p:blipFill>
        <p:spPr>
          <a:xfrm>
            <a:off x="3592440" y="6291360"/>
            <a:ext cx="1495440" cy="549000"/>
          </a:xfrm>
          <a:prstGeom prst="rect">
            <a:avLst/>
          </a:prstGeom>
          <a:ln w="0">
            <a:noFill/>
          </a:ln>
        </p:spPr>
      </p:pic>
      <p:pic>
        <p:nvPicPr>
          <p:cNvPr id="1165" name="Picture 2" descr=""/>
          <p:cNvPicPr/>
          <p:nvPr/>
        </p:nvPicPr>
        <p:blipFill>
          <a:blip r:embed="rId4"/>
          <a:stretch/>
        </p:blipFill>
        <p:spPr>
          <a:xfrm>
            <a:off x="0" y="0"/>
            <a:ext cx="9144000" cy="6840360"/>
          </a:xfrm>
          <a:prstGeom prst="rect">
            <a:avLst/>
          </a:prstGeom>
          <a:ln w="0">
            <a:noFill/>
          </a:ln>
        </p:spPr>
      </p:pic>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168" name="PlaceHolder 3"/>
          <p:cNvSpPr>
            <a:spLocks noGrp="1"/>
          </p:cNvSpPr>
          <p:nvPr>
            <p:ph type="sldNum" idx="55"/>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7431-5981-43D5-A99C-763527C626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05" name="Picture 2" descr=""/>
          <p:cNvPicPr/>
          <p:nvPr/>
        </p:nvPicPr>
        <p:blipFill>
          <a:blip r:embed="rId3"/>
          <a:stretch/>
        </p:blipFill>
        <p:spPr>
          <a:xfrm>
            <a:off x="3592440" y="6291360"/>
            <a:ext cx="1495440" cy="549000"/>
          </a:xfrm>
          <a:prstGeom prst="rect">
            <a:avLst/>
          </a:prstGeom>
          <a:ln w="0">
            <a:noFill/>
          </a:ln>
        </p:spPr>
      </p:pic>
      <p:pic>
        <p:nvPicPr>
          <p:cNvPr id="1206" name="Picture 2" descr=""/>
          <p:cNvPicPr/>
          <p:nvPr/>
        </p:nvPicPr>
        <p:blipFill>
          <a:blip r:embed="rId4"/>
          <a:stretch/>
        </p:blipFill>
        <p:spPr>
          <a:xfrm>
            <a:off x="0" y="0"/>
            <a:ext cx="9144000" cy="6840360"/>
          </a:xfrm>
          <a:prstGeom prst="rect">
            <a:avLst/>
          </a:prstGeom>
          <a:ln w="0">
            <a:noFill/>
          </a:ln>
        </p:spPr>
      </p:pic>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209" name="PlaceHolder 3"/>
          <p:cNvSpPr>
            <a:spLocks noGrp="1"/>
          </p:cNvSpPr>
          <p:nvPr>
            <p:ph type="ftr" idx="56"/>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PlaceHolder 4"/>
          <p:cNvSpPr>
            <a:spLocks noGrp="1"/>
          </p:cNvSpPr>
          <p:nvPr>
            <p:ph type="sldNum" idx="57"/>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5830-5CED-4494-BA66-5B8384477D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7" name="Picture 2" descr=""/>
          <p:cNvPicPr/>
          <p:nvPr/>
        </p:nvPicPr>
        <p:blipFill>
          <a:blip r:embed="rId3"/>
          <a:stretch/>
        </p:blipFill>
        <p:spPr>
          <a:xfrm>
            <a:off x="3592440" y="6291360"/>
            <a:ext cx="1495440" cy="549000"/>
          </a:xfrm>
          <a:prstGeom prst="rect">
            <a:avLst/>
          </a:prstGeom>
          <a:ln w="0">
            <a:noFill/>
          </a:ln>
        </p:spPr>
      </p:pic>
      <p:pic>
        <p:nvPicPr>
          <p:cNvPr id="1248" name="Picture 2" descr=""/>
          <p:cNvPicPr/>
          <p:nvPr/>
        </p:nvPicPr>
        <p:blipFill>
          <a:blip r:embed="rId4"/>
          <a:stretch/>
        </p:blipFill>
        <p:spPr>
          <a:xfrm>
            <a:off x="0" y="0"/>
            <a:ext cx="9144000" cy="6840360"/>
          </a:xfrm>
          <a:prstGeom prst="rect">
            <a:avLst/>
          </a:prstGeom>
          <a:ln w="0">
            <a:noFill/>
          </a:ln>
        </p:spPr>
      </p:pic>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251" name="PlaceHolder 3"/>
          <p:cNvSpPr>
            <a:spLocks noGrp="1"/>
          </p:cNvSpPr>
          <p:nvPr>
            <p:ph type="sldNum" idx="58"/>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16BB-5D19-452C-8AAB-3BC03EED9F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8" name="Picture 2" descr=""/>
          <p:cNvPicPr/>
          <p:nvPr/>
        </p:nvPicPr>
        <p:blipFill>
          <a:blip r:embed="rId3"/>
          <a:stretch/>
        </p:blipFill>
        <p:spPr>
          <a:xfrm>
            <a:off x="3592440" y="6291360"/>
            <a:ext cx="1495440" cy="549000"/>
          </a:xfrm>
          <a:prstGeom prst="rect">
            <a:avLst/>
          </a:prstGeom>
          <a:ln w="0">
            <a:noFill/>
          </a:ln>
        </p:spPr>
      </p:pic>
      <p:pic>
        <p:nvPicPr>
          <p:cNvPr id="1289" name="Picture 2" descr=""/>
          <p:cNvPicPr/>
          <p:nvPr/>
        </p:nvPicPr>
        <p:blipFill>
          <a:blip r:embed="rId4"/>
          <a:stretch/>
        </p:blipFill>
        <p:spPr>
          <a:xfrm>
            <a:off x="0" y="0"/>
            <a:ext cx="9144000" cy="6840360"/>
          </a:xfrm>
          <a:prstGeom prst="rect">
            <a:avLst/>
          </a:prstGeom>
          <a:ln w="0">
            <a:noFill/>
          </a:ln>
        </p:spPr>
      </p:pic>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292" name="PlaceHolder 3"/>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293" name="PlaceHolder 4"/>
          <p:cNvSpPr>
            <a:spLocks noGrp="1"/>
          </p:cNvSpPr>
          <p:nvPr>
            <p:ph type="ftr" idx="60"/>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4" name="PlaceHolder 5"/>
          <p:cNvSpPr>
            <a:spLocks noGrp="1"/>
          </p:cNvSpPr>
          <p:nvPr>
            <p:ph type="sldNum" idx="61"/>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0C18-1A3F-4C50-B95B-17DEE17BC0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31" name="Picture 2" descr=""/>
          <p:cNvPicPr/>
          <p:nvPr/>
        </p:nvPicPr>
        <p:blipFill>
          <a:blip r:embed="rId3"/>
          <a:stretch/>
        </p:blipFill>
        <p:spPr>
          <a:xfrm>
            <a:off x="3592440" y="6291360"/>
            <a:ext cx="1495440" cy="549000"/>
          </a:xfrm>
          <a:prstGeom prst="rect">
            <a:avLst/>
          </a:prstGeom>
          <a:ln w="0">
            <a:noFill/>
          </a:ln>
        </p:spPr>
      </p:pic>
      <p:pic>
        <p:nvPicPr>
          <p:cNvPr id="1332" name="Picture 2" descr=""/>
          <p:cNvPicPr/>
          <p:nvPr/>
        </p:nvPicPr>
        <p:blipFill>
          <a:blip r:embed="rId4"/>
          <a:stretch/>
        </p:blipFill>
        <p:spPr>
          <a:xfrm>
            <a:off x="0" y="0"/>
            <a:ext cx="9144000" cy="6840360"/>
          </a:xfrm>
          <a:prstGeom prst="rect">
            <a:avLst/>
          </a:prstGeom>
          <a:ln w="0">
            <a:noFill/>
          </a:ln>
        </p:spPr>
      </p:pic>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335" name="PlaceHolder 3"/>
          <p:cNvSpPr>
            <a:spLocks noGrp="1"/>
          </p:cNvSpPr>
          <p:nvPr>
            <p:ph type="ftr" idx="62"/>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PlaceHolder 4"/>
          <p:cNvSpPr>
            <a:spLocks noGrp="1"/>
          </p:cNvSpPr>
          <p:nvPr>
            <p:ph type="sldNum" idx="63"/>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55B5-3C98-4F2A-932D-5EEF62EE1C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3" name="Picture 2" descr=""/>
          <p:cNvPicPr/>
          <p:nvPr/>
        </p:nvPicPr>
        <p:blipFill>
          <a:blip r:embed="rId3"/>
          <a:stretch/>
        </p:blipFill>
        <p:spPr>
          <a:xfrm>
            <a:off x="3592440" y="6291360"/>
            <a:ext cx="1495440" cy="549000"/>
          </a:xfrm>
          <a:prstGeom prst="rect">
            <a:avLst/>
          </a:prstGeom>
          <a:ln w="0">
            <a:noFill/>
          </a:ln>
        </p:spPr>
      </p:pic>
      <p:pic>
        <p:nvPicPr>
          <p:cNvPr id="1374" name="Picture 2" descr=""/>
          <p:cNvPicPr/>
          <p:nvPr/>
        </p:nvPicPr>
        <p:blipFill>
          <a:blip r:embed="rId4"/>
          <a:stretch/>
        </p:blipFill>
        <p:spPr>
          <a:xfrm>
            <a:off x="0" y="0"/>
            <a:ext cx="9144000" cy="6840360"/>
          </a:xfrm>
          <a:prstGeom prst="rect">
            <a:avLst/>
          </a:prstGeom>
          <a:ln w="0">
            <a:noFill/>
          </a:ln>
        </p:spPr>
      </p:pic>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377" name="PlaceHolder 3"/>
          <p:cNvSpPr>
            <a:spLocks noGrp="1"/>
          </p:cNvSpPr>
          <p:nvPr>
            <p:ph type="sldNum" idx="64"/>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E7E0-A51B-45DB-9470-CC7B405C94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14" name="Picture 2" descr=""/>
          <p:cNvPicPr/>
          <p:nvPr/>
        </p:nvPicPr>
        <p:blipFill>
          <a:blip r:embed="rId3"/>
          <a:stretch/>
        </p:blipFill>
        <p:spPr>
          <a:xfrm>
            <a:off x="3592440" y="6291360"/>
            <a:ext cx="1495440" cy="549000"/>
          </a:xfrm>
          <a:prstGeom prst="rect">
            <a:avLst/>
          </a:prstGeom>
          <a:ln w="0">
            <a:noFill/>
          </a:ln>
        </p:spPr>
      </p:pic>
      <p:pic>
        <p:nvPicPr>
          <p:cNvPr id="1415" name="Picture 2" descr=""/>
          <p:cNvPicPr/>
          <p:nvPr/>
        </p:nvPicPr>
        <p:blipFill>
          <a:blip r:embed="rId4"/>
          <a:stretch/>
        </p:blipFill>
        <p:spPr>
          <a:xfrm>
            <a:off x="0" y="0"/>
            <a:ext cx="9144000" cy="6840360"/>
          </a:xfrm>
          <a:prstGeom prst="rect">
            <a:avLst/>
          </a:prstGeom>
          <a:ln w="0">
            <a:noFill/>
          </a:ln>
        </p:spPr>
      </p:pic>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418" name="PlaceHolder 3"/>
          <p:cNvSpPr>
            <a:spLocks noGrp="1"/>
          </p:cNvSpPr>
          <p:nvPr>
            <p:ph type="ftr" idx="65"/>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9" name="PlaceHolder 4"/>
          <p:cNvSpPr>
            <a:spLocks noGrp="1"/>
          </p:cNvSpPr>
          <p:nvPr>
            <p:ph type="sldNum" idx="66"/>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3FEC-70DE-4D84-9D07-DFEDB7AFD0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56" name="Picture 2" descr=""/>
          <p:cNvPicPr/>
          <p:nvPr/>
        </p:nvPicPr>
        <p:blipFill>
          <a:blip r:embed="rId3"/>
          <a:stretch/>
        </p:blipFill>
        <p:spPr>
          <a:xfrm>
            <a:off x="3592440" y="6291360"/>
            <a:ext cx="1495440" cy="549000"/>
          </a:xfrm>
          <a:prstGeom prst="rect">
            <a:avLst/>
          </a:prstGeom>
          <a:ln w="0">
            <a:noFill/>
          </a:ln>
        </p:spPr>
      </p:pic>
      <p:pic>
        <p:nvPicPr>
          <p:cNvPr id="1457" name="Picture 2" descr=""/>
          <p:cNvPicPr/>
          <p:nvPr/>
        </p:nvPicPr>
        <p:blipFill>
          <a:blip r:embed="rId4"/>
          <a:stretch/>
        </p:blipFill>
        <p:spPr>
          <a:xfrm>
            <a:off x="0" y="0"/>
            <a:ext cx="9144000" cy="6840360"/>
          </a:xfrm>
          <a:prstGeom prst="rect">
            <a:avLst/>
          </a:prstGeom>
          <a:ln w="0">
            <a:noFill/>
          </a:ln>
        </p:spPr>
      </p:pic>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460"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61"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2" name="PlaceHolder 5"/>
          <p:cNvSpPr>
            <a:spLocks noGrp="1"/>
          </p:cNvSpPr>
          <p:nvPr>
            <p:ph type="sldNum" idx="69"/>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CAA7-544C-4FDD-A3F1-BD5C8B0DE1C3}"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61" name="PlaceHolder 3"/>
          <p:cNvSpPr>
            <a:spLocks noGrp="1"/>
          </p:cNvSpPr>
          <p:nvPr>
            <p:ph type="sldNum" idx="6"/>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116A-A8C9-4AA6-9431-61751A6F5E3E}"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200" name="PlaceHolder 3"/>
          <p:cNvSpPr>
            <a:spLocks noGrp="1"/>
          </p:cNvSpPr>
          <p:nvPr>
            <p:ph type="sldNum" idx="7"/>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F1B2-8A25-487D-9B8E-D0F19A2C3A66}"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239" name="PlaceHolder 3"/>
          <p:cNvSpPr>
            <a:spLocks noGrp="1"/>
          </p:cNvSpPr>
          <p:nvPr>
            <p:ph type="sldNum" idx="8"/>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9073-B732-4A4D-BCB5-E164B6B480FA}"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278" name="PlaceHolder 3"/>
          <p:cNvSpPr>
            <a:spLocks noGrp="1"/>
          </p:cNvSpPr>
          <p:nvPr>
            <p:ph type="ftr" idx="9"/>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PlaceHolder 4"/>
          <p:cNvSpPr>
            <a:spLocks noGrp="1"/>
          </p:cNvSpPr>
          <p:nvPr>
            <p:ph type="sldNum" idx="10"/>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071D-D8AA-4F77-AF67-3CDBDE17C5BD}"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318" name="PlaceHolder 3"/>
          <p:cNvSpPr>
            <a:spLocks noGrp="1"/>
          </p:cNvSpPr>
          <p:nvPr>
            <p:ph type="sldNum" idx="11"/>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E097-DEFB-4F45-970D-ADD02CE15E12}"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9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8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4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6" name=""/>
          <p:cNvSpPr txBox="1"/>
          <p:nvPr/>
        </p:nvSpPr>
        <p:spPr>
          <a:xfrm>
            <a:off x="457200" y="1600200"/>
            <a:ext cx="403848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400" spc="-1" strike="noStrike">
                <a:solidFill>
                  <a:srgbClr val="000000"/>
                </a:solidFill>
                <a:latin typeface="Calibri"/>
              </a:rPr>
              <a:t>Comhairliúchán ar an nGearrchúrsa don Litearthacht sna Meáin Dhigiteacha </a:t>
            </a:r>
            <a:endParaRPr b="0" lang="en-US" sz="2400" spc="-1" strike="noStrike">
              <a:solidFill>
                <a:srgbClr val="000000"/>
              </a:solidFill>
              <a:latin typeface="Calibri"/>
            </a:endParaRPr>
          </a:p>
        </p:txBody>
      </p:sp>
      <p:pic>
        <p:nvPicPr>
          <p:cNvPr id="1507" name="Content Placeholder 10" descr=""/>
          <p:cNvPicPr/>
          <p:nvPr/>
        </p:nvPicPr>
        <p:blipFill>
          <a:blip r:embed="rId2"/>
          <a:stretch/>
        </p:blipFill>
        <p:spPr>
          <a:xfrm>
            <a:off x="4572000" y="1600200"/>
            <a:ext cx="32418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6" name="Picture 1" descr=""/>
          <p:cNvPicPr/>
          <p:nvPr/>
        </p:nvPicPr>
        <p:blipFill>
          <a:blip r:embed="rId1"/>
          <a:stretch/>
        </p:blipFill>
        <p:spPr>
          <a:xfrm>
            <a:off x="1762200" y="1266840"/>
            <a:ext cx="5619600" cy="432432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Gearrchúrsa don Litearthacht sna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Meáin Dhigiteacha</a:t>
            </a:r>
            <a:endParaRPr b="0" lang="en-US" sz="2800" spc="-1" strike="noStrike">
              <a:solidFill>
                <a:srgbClr val="001d51"/>
              </a:solidFill>
              <a:latin typeface="Calibri"/>
            </a:endParaRPr>
          </a:p>
        </p:txBody>
      </p:sp>
      <p:sp>
        <p:nvSpPr>
          <p:cNvPr id="1509" name=""/>
          <p:cNvSpPr txBox="1"/>
          <p:nvPr/>
        </p:nvSpPr>
        <p:spPr>
          <a:xfrm>
            <a:off x="457200" y="1600200"/>
            <a:ext cx="4038480" cy="4525920"/>
          </a:xfrm>
          <a:prstGeom prst="rect">
            <a:avLst/>
          </a:prstGeom>
          <a:noFill/>
          <a:ln w="0">
            <a:noFill/>
          </a:ln>
        </p:spPr>
        <p:txBody>
          <a:bodyPr anchor="t">
            <a:normAutofit/>
          </a:bodyPr>
          <a:p>
            <a:pPr marL="457200" indent="-457200">
              <a:spcBef>
                <a:spcPts val="700"/>
              </a:spcBef>
              <a:buClr>
                <a:srgbClr val="e5bd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1d51"/>
                </a:solidFill>
                <a:latin typeface="Calibri"/>
              </a:rPr>
              <a:t>100 uair foghlama</a:t>
            </a:r>
            <a:endParaRPr b="0" lang="en-US" sz="2800" spc="-1" strike="noStrike">
              <a:solidFill>
                <a:srgbClr val="001d51"/>
              </a:solidFill>
              <a:latin typeface="Calibri"/>
            </a:endParaRPr>
          </a:p>
          <a:p>
            <a:pPr marL="457200" indent="-457200">
              <a:spcBef>
                <a:spcPts val="700"/>
              </a:spcBef>
              <a:buClr>
                <a:srgbClr val="e5bd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1d51"/>
                </a:solidFill>
                <a:latin typeface="Calibri"/>
              </a:rPr>
              <a:t>Arna theagasc thar 1, 2 nó 3 bliana</a:t>
            </a:r>
            <a:endParaRPr b="0" lang="en-US" sz="2800" spc="-1" strike="noStrike">
              <a:solidFill>
                <a:srgbClr val="001d51"/>
              </a:solidFill>
              <a:latin typeface="Calibri"/>
            </a:endParaRPr>
          </a:p>
          <a:p>
            <a:pPr marL="457200" indent="-457200">
              <a:spcBef>
                <a:spcPts val="700"/>
              </a:spcBef>
              <a:buClr>
                <a:srgbClr val="e5bd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1d51"/>
                </a:solidFill>
                <a:latin typeface="Calibri"/>
              </a:rPr>
              <a:t>Arna shonrú ag leibhéal comónta</a:t>
            </a:r>
            <a:endParaRPr b="0" lang="en-US" sz="2800" spc="-1" strike="noStrike">
              <a:solidFill>
                <a:srgbClr val="001d51"/>
              </a:solidFill>
              <a:latin typeface="Calibri"/>
            </a:endParaRPr>
          </a:p>
          <a:p>
            <a:pPr marL="457200" indent="-457200">
              <a:spcBef>
                <a:spcPts val="700"/>
              </a:spcBef>
              <a:buClr>
                <a:srgbClr val="e5bd3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800" spc="-1" strike="noStrike">
                <a:solidFill>
                  <a:srgbClr val="001d51"/>
                </a:solidFill>
                <a:latin typeface="Calibri"/>
              </a:rPr>
              <a:t>Is féidir oiread le 4 ghearrchúrsa a chur san áireamh sa teastas</a:t>
            </a:r>
            <a:endParaRPr b="0" lang="en-US" sz="2800" spc="-1" strike="noStrike">
              <a:solidFill>
                <a:srgbClr val="001d51"/>
              </a:solidFill>
              <a:latin typeface="Calibri"/>
            </a:endParaRPr>
          </a:p>
        </p:txBody>
      </p:sp>
      <p:pic>
        <p:nvPicPr>
          <p:cNvPr id="1510" name="Content Placeholder 7" descr=""/>
          <p:cNvPicPr/>
          <p:nvPr/>
        </p:nvPicPr>
        <p:blipFill>
          <a:blip r:embed="rId1"/>
          <a:stretch/>
        </p:blipFill>
        <p:spPr>
          <a:xfrm>
            <a:off x="4816440" y="2000160"/>
            <a:ext cx="3056040" cy="26751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Gearrchúrsa don Litearthacht sna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Meáin Dhigiteacha </a:t>
            </a:r>
            <a:endParaRPr b="0" lang="en-US" sz="2800" spc="-1" strike="noStrike">
              <a:solidFill>
                <a:srgbClr val="001d51"/>
              </a:solidFill>
              <a:latin typeface="Calibri"/>
            </a:endParaRPr>
          </a:p>
        </p:txBody>
      </p:sp>
      <p:pic>
        <p:nvPicPr>
          <p:cNvPr id="1512" name="Content Placeholder 5" descr=""/>
          <p:cNvPicPr/>
          <p:nvPr/>
        </p:nvPicPr>
        <p:blipFill>
          <a:blip r:embed="rId1"/>
          <a:stretch/>
        </p:blipFill>
        <p:spPr>
          <a:xfrm>
            <a:off x="585720" y="2305080"/>
            <a:ext cx="3322800" cy="2163600"/>
          </a:xfrm>
          <a:prstGeom prst="rect">
            <a:avLst/>
          </a:prstGeom>
          <a:ln w="0">
            <a:noFill/>
          </a:ln>
        </p:spPr>
      </p:pic>
      <p:sp>
        <p:nvSpPr>
          <p:cNvPr id="1513" name=""/>
          <p:cNvSpPr txBox="1"/>
          <p:nvPr/>
        </p:nvSpPr>
        <p:spPr>
          <a:xfrm>
            <a:off x="4571640" y="1600200"/>
            <a:ext cx="44118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001d51"/>
                </a:solidFill>
                <a:latin typeface="Calibri"/>
              </a:rPr>
              <a:t>	</a:t>
            </a:r>
            <a:r>
              <a:rPr b="0" lang="en-IE" sz="2800" spc="-1" strike="noStrike">
                <a:solidFill>
                  <a:srgbClr val="001d51"/>
                </a:solidFill>
                <a:latin typeface="Calibri"/>
              </a:rPr>
              <a:t>Aidhm</a:t>
            </a:r>
            <a:endParaRPr b="0" lang="en-US" sz="2800" spc="-1" strike="noStrike">
              <a:solidFill>
                <a:srgbClr val="001d51"/>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001d51"/>
                </a:solidFill>
                <a:latin typeface="Calibri"/>
              </a:rPr>
              <a:t>	</a:t>
            </a:r>
            <a:r>
              <a:rPr b="0" lang="en-IE" sz="2400" spc="-1" strike="noStrike">
                <a:solidFill>
                  <a:srgbClr val="001d51"/>
                </a:solidFill>
                <a:latin typeface="Calibri"/>
              </a:rPr>
              <a:t>Is í aidhm an ghearrchúrsa seo cumas scoláirí a fhorbairt chun an teicneolaíocht dhigiteach, na huirlisí cumarsáide agus an t-idirlíon a úsáid go cruthaitheach, go nuálach agus go sábháilte rud a chabhróidh lena gcuid foghlama agus a ligfidh dóibh gníomhú go héifeachtach ina gcuid pobal.</a:t>
            </a:r>
            <a:endParaRPr b="0" lang="en-US" sz="2400" spc="-1" strike="noStrike">
              <a:solidFill>
                <a:srgbClr val="001d51"/>
              </a:solidFill>
              <a:latin typeface="Calibri"/>
            </a:endParaRPr>
          </a:p>
        </p:txBody>
      </p:sp>
      <p:sp>
        <p:nvSpPr>
          <p:cNvPr id="1514" name="Slide Number Placeholder 4"/>
          <p:cNvSpPr/>
          <p:nvPr/>
        </p:nvSpPr>
        <p:spPr>
          <a:xfrm>
            <a:off x="8012160" y="5900760"/>
            <a:ext cx="952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EF33-4264-4C16-BAE1-B761803D06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Gearrchúrsa don Litearthacht sna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	</a:t>
            </a:r>
            <a:r>
              <a:rPr b="0" lang="en-IE" sz="2800" spc="-1" strike="noStrike">
                <a:solidFill>
                  <a:srgbClr val="001d51"/>
                </a:solidFill>
                <a:latin typeface="Calibri"/>
              </a:rPr>
              <a:t>Meáin Dhigiteacha</a:t>
            </a:r>
            <a:endParaRPr b="0" lang="en-US" sz="2800" spc="-1" strike="noStrike">
              <a:solidFill>
                <a:srgbClr val="001d51"/>
              </a:solidFill>
              <a:latin typeface="Calibri"/>
            </a:endParaRPr>
          </a:p>
        </p:txBody>
      </p:sp>
      <p:pic>
        <p:nvPicPr>
          <p:cNvPr id="1516" name="Content Placeholder 8" descr=""/>
          <p:cNvPicPr/>
          <p:nvPr/>
        </p:nvPicPr>
        <p:blipFill>
          <a:blip r:embed="rId1"/>
          <a:stretch/>
        </p:blipFill>
        <p:spPr>
          <a:xfrm>
            <a:off x="4017960" y="2004840"/>
            <a:ext cx="4681440" cy="2878200"/>
          </a:xfrm>
          <a:prstGeom prst="rect">
            <a:avLst/>
          </a:prstGeom>
          <a:ln w="0">
            <a:noFill/>
          </a:ln>
        </p:spPr>
      </p:pic>
      <p:sp>
        <p:nvSpPr>
          <p:cNvPr id="1517" name="Slide Number Placeholder 4"/>
          <p:cNvSpPr/>
          <p:nvPr/>
        </p:nvSpPr>
        <p:spPr>
          <a:xfrm>
            <a:off x="8012160" y="5900760"/>
            <a:ext cx="952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7EC5-B3F8-44BE-8806-31BA0A4ABE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518" name="Content Placeholder 7" descr=""/>
          <p:cNvPicPr/>
          <p:nvPr/>
        </p:nvPicPr>
        <p:blipFill>
          <a:blip r:embed="rId2"/>
          <a:stretch/>
        </p:blipFill>
        <p:spPr>
          <a:xfrm>
            <a:off x="174600" y="2232000"/>
            <a:ext cx="3313080" cy="174780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9" name=""/>
          <p:cNvGraphicFramePr/>
          <p:nvPr/>
        </p:nvGraphicFramePr>
        <p:xfrm>
          <a:off x="1523880" y="1397160"/>
          <a:ext cx="6096240" cy="3108240"/>
        </p:xfrm>
        <a:graphic>
          <a:graphicData uri="http://schemas.openxmlformats.org/drawingml/2006/table">
            <a:tbl>
              <a:tblPr/>
              <a:tblGrid>
                <a:gridCol w="2184480"/>
                <a:gridCol w="3911760"/>
              </a:tblGrid>
              <a:tr h="3111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Calibri"/>
                        </a:rPr>
                        <a:t>Sraith 1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Mo Dhomhan Digiteac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Calibri"/>
                        </a:rPr>
                        <a:t>Topaicí:</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An fáth a n-úsáidtear teicneolaíochtaí digiteacha</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Saincheisteanna eiticiúla agus dleathacha</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Sábháilteacht phearsanta ar líne</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An Chairt um Chearta ar Líne</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Tionchar na dteicneolaíochtaí digiteacha </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0" name=""/>
          <p:cNvGraphicFramePr/>
          <p:nvPr/>
        </p:nvGraphicFramePr>
        <p:xfrm>
          <a:off x="1523880" y="1397160"/>
          <a:ext cx="6096240" cy="2286000"/>
        </p:xfrm>
        <a:graphic>
          <a:graphicData uri="http://schemas.openxmlformats.org/drawingml/2006/table">
            <a:tbl>
              <a:tblPr/>
              <a:tblGrid>
                <a:gridCol w="2184480"/>
                <a:gridCol w="3911760"/>
              </a:tblGrid>
              <a:tr h="2288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Calibri"/>
                        </a:rPr>
                        <a:t>Sraith 2</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Calibri"/>
                        </a:rPr>
                        <a:t>Mo chuid Suimeanna a Leanúint ar Lí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Calibri"/>
                        </a:rPr>
                        <a:t>Topaicí:</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Comharthaí sóirt na meán digiteach</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Eolas a anailísiú agus a chur i gcomparáid</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Íomháineachas digiteach a chruthú</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Ionramháil dhigiteach a iniúchad</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1" name=""/>
          <p:cNvGraphicFramePr/>
          <p:nvPr/>
        </p:nvGraphicFramePr>
        <p:xfrm>
          <a:off x="1523880" y="1397160"/>
          <a:ext cx="6096240" cy="2333520"/>
        </p:xfrm>
        <a:graphic>
          <a:graphicData uri="http://schemas.openxmlformats.org/drawingml/2006/table">
            <a:tbl>
              <a:tblPr/>
              <a:tblGrid>
                <a:gridCol w="2184480"/>
                <a:gridCol w="3911760"/>
              </a:tblGrid>
              <a:tr h="2333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Calibri"/>
                        </a:rPr>
                        <a:t>Sraith 3</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Na Fíricí a Sheiceá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Calibri"/>
                        </a:rPr>
                        <a:t>Topaicí:</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Na meáin dhigiteacha agus roghanna tomhaltóirí </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Claontacht agus tionchar ar líne</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Ról na meán digiteach sa tsochaí</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2" name=""/>
          <p:cNvGraphicFramePr/>
          <p:nvPr/>
        </p:nvGraphicFramePr>
        <p:xfrm>
          <a:off x="1523880" y="1397160"/>
          <a:ext cx="6096240" cy="2681280"/>
        </p:xfrm>
        <a:graphic>
          <a:graphicData uri="http://schemas.openxmlformats.org/drawingml/2006/table">
            <a:tbl>
              <a:tblPr/>
              <a:tblGrid>
                <a:gridCol w="2040120"/>
                <a:gridCol w="4056120"/>
              </a:tblGrid>
              <a:tr h="2681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Calibri"/>
                        </a:rPr>
                        <a:t>Sraith 4</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M’Fhoilsiú Féi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800" spc="-1" strike="noStrike">
                          <a:solidFill>
                            <a:srgbClr val="ffffff"/>
                          </a:solidFill>
                          <a:latin typeface="Calibri"/>
                        </a:rPr>
                        <a:t>Topaicí:</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Cearta agus rioscaí ar líne</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Prótacal chun rudaí a roinnt ar líne</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Rud a lua agus tagairt chruinn a thabhairt</a:t>
                      </a:r>
                      <a:endParaRPr b="0" lang="en-US" sz="1800" spc="-1" strike="noStrike">
                        <a:solidFill>
                          <a:srgbClr val="000000"/>
                        </a:solidFill>
                        <a:latin typeface="Calibri"/>
                      </a:endParaRPr>
                    </a:p>
                    <a:p>
                      <a:pP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800" spc="-1" strike="noStrike">
                          <a:solidFill>
                            <a:srgbClr val="ffffff"/>
                          </a:solidFill>
                          <a:latin typeface="Calibri"/>
                        </a:rPr>
                        <a:t>Foilsiú ar lí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4400" spc="-1" strike="noStrike">
                <a:solidFill>
                  <a:srgbClr val="001d51"/>
                </a:solidFill>
                <a:latin typeface="Calibri"/>
              </a:rPr>
              <a:t>	</a:t>
            </a:r>
            <a:r>
              <a:rPr b="0" lang="en-IE" sz="4400" spc="-1" strike="noStrike">
                <a:solidFill>
                  <a:srgbClr val="001d51"/>
                </a:solidFill>
                <a:latin typeface="Calibri"/>
              </a:rPr>
              <a:t>	</a:t>
            </a:r>
            <a:r>
              <a:rPr b="0" lang="en-IE" sz="4400" spc="-1" strike="noStrike">
                <a:solidFill>
                  <a:srgbClr val="001d51"/>
                </a:solidFill>
                <a:latin typeface="Calibri"/>
              </a:rPr>
              <a:t>	</a:t>
            </a:r>
            <a:r>
              <a:rPr b="0" lang="en-IE" sz="4400" spc="-1" strike="noStrike">
                <a:solidFill>
                  <a:srgbClr val="001d51"/>
                </a:solidFill>
                <a:latin typeface="Calibri"/>
              </a:rPr>
              <a:t>	</a:t>
            </a:r>
            <a:r>
              <a:rPr b="0" lang="en-IE" sz="4400" spc="-1" strike="noStrike">
                <a:solidFill>
                  <a:srgbClr val="001d51"/>
                </a:solidFill>
                <a:latin typeface="Calibri"/>
              </a:rPr>
              <a:t>	</a:t>
            </a:r>
            <a:r>
              <a:rPr b="0" lang="en-IE" sz="4400" spc="-1" strike="noStrike">
                <a:solidFill>
                  <a:srgbClr val="001d51"/>
                </a:solidFill>
                <a:latin typeface="Calibri"/>
              </a:rPr>
              <a:t>	</a:t>
            </a:r>
            <a:r>
              <a:rPr b="0" lang="en-IE" sz="4400" spc="-1" strike="noStrike">
                <a:solidFill>
                  <a:srgbClr val="001d51"/>
                </a:solidFill>
                <a:latin typeface="Calibri"/>
              </a:rPr>
              <a:t>	</a:t>
            </a:r>
            <a:r>
              <a:rPr b="0" lang="en-IE" sz="4400" spc="-1" strike="noStrike">
                <a:solidFill>
                  <a:srgbClr val="001d51"/>
                </a:solidFill>
                <a:latin typeface="Calibri"/>
              </a:rPr>
              <a:t>Measúnú</a:t>
            </a:r>
            <a:endParaRPr b="0" lang="en-US" sz="4400" spc="-1" strike="noStrike">
              <a:solidFill>
                <a:srgbClr val="001d51"/>
              </a:solidFill>
              <a:latin typeface="Calibri"/>
            </a:endParaRPr>
          </a:p>
        </p:txBody>
      </p:sp>
      <p:pic>
        <p:nvPicPr>
          <p:cNvPr id="1524" name="Content Placeholder 4" descr=""/>
          <p:cNvPicPr/>
          <p:nvPr/>
        </p:nvPicPr>
        <p:blipFill>
          <a:blip r:embed="rId1"/>
          <a:stretch/>
        </p:blipFill>
        <p:spPr>
          <a:xfrm>
            <a:off x="401760" y="1596960"/>
            <a:ext cx="8340480" cy="3797280"/>
          </a:xfrm>
          <a:prstGeom prst="rect">
            <a:avLst/>
          </a:prstGeom>
          <a:ln w="0">
            <a:noFill/>
          </a:ln>
        </p:spPr>
      </p:pic>
      <p:sp>
        <p:nvSpPr>
          <p:cNvPr id="1525" name="Slide Number Placeholder 3"/>
          <p:cNvSpPr/>
          <p:nvPr/>
        </p:nvSpPr>
        <p:spPr>
          <a:xfrm>
            <a:off x="8012160" y="5900760"/>
            <a:ext cx="952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857A-8767-4F72-8875-A848694E53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5T09:09:20Z</dcterms:created>
  <dc:creator>Ben Murray</dc:creator>
  <dc:description/>
  <dc:language>en-US</dc:language>
  <cp:lastModifiedBy>Fred Boss</cp:lastModifiedBy>
  <cp:lastPrinted>2013-11-04T09:13:04Z</cp:lastPrinted>
  <dcterms:modified xsi:type="dcterms:W3CDTF">2014-01-16T12:52:28Z</dcterms:modified>
  <cp:revision>71</cp:revision>
  <dc:subject/>
  <dc:title>Physical Education Short Course</dc:title>
</cp:coreProperties>
</file>