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8D21-4EC8-44B2-BC08-C99A62CBC651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4485-1AEE-4FE9-A23C-23E04DA4866E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á an gearrchúrsa comhdhéanta de thrí shraith. Díríonn gach sraith ar théama difriúil agus cabhróidh an chéad chúpla sleamhnán eile leat beagán níos mó tuisceana a bheith agat ar na téamaí difriúla se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1713-282B-455B-B57F-3077A330FCE1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Sa tsraith seo, cuirfidh tú leis an gcomhiarracht, i d’aonar agus i gcomhar le daoine eile, chun teacht ar réiteach ar an dúshlán ealaíne a thugtar i sraith 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Chun sin a dhéanamh is gá cumarsáid chuí a dhéanamh le piaraí, múinteoirí, ceannairí agus leo siúd atá ag freastal ar an imeac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abharfaidh tú súil siar freisin le do mhúinteoir ar an taibhiú deireanach inar ghlac tú páirt, agus aimseoidh tú na scileanna agus an t-eolas atá faighte agat, ag cur in iúl an inaistritheacht a bhaineann leo i leith achair eile do chuid foghla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49B9-3374-4EA9-A412-F5614FED0075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 Sraith 2, sainaithneoidh tú an ghníomhaíocht chruthaitheach chomhoibritheach  trí do smaointe féin agus trí éisteacht le smaointe daoine eile agus bheith ag cur leo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abharfaidh tú fianaise phraiticiúil ar na láidreachtaí agus na buanna a bhéarfaidh tusa chuig an tasc agus tú ag aithint bhuanna daoine ei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ghlaimeoidh tú an dóigh le taighde agus acmhainní a úsáid, lena n-áirítear imeachtaí ealaíne a chabhróidh leat forbairt sa ról ata roghnaithe agat nó atá sannta d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Beidh ort obair a dhéanamh go neamhspleách agus i gcomhar le piaraí, agus a thaispeáint go bhfuil tú tiomanta ar chloí le spriocdhátaí agus /nó freastal a dhéanamh ar chleachta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2DF6-E4E9-42F3-A74A-A76854BBE6AD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Sa tsraith seo, cuirfidh tú leis an gcomhiarracht, i d’aonar agus i gcomhar le daoine eile, chun teacht ar réiteach ar an dúshlán ealaíne a thugtar i sraith 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Chun sin a dhéanamh is gá cumarsáid chuí a dhéanamh le piaraí, múinteoirí, ceannairí agus leo siúd atá ag freastal ar an imeac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abharfaidh tú súil siar freisin le do mhúinteoir ar an taibhiú deireanach inar ghlac tú páirt, agus aimseoidh tú na scileanna agus an t-eolas atá faighte agat, ag cur in iúl an inaistritheacht a bhaineann leo i leith achair eile de do chuid foghla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D676-85A1-411D-BD83-11404C54B3D5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Beidh ort siurnal a choimeád chun cabhrú leat machnamh a dhéanamh ar do chuid foghlama le linn na gcéad dá shraith.  D’fhéadfadh go gclúdódh sé seo achoimre den fhaisnéis a d’fhoghlaim tú agus taifead de na léargais ar leith a fuair tú ó do thaithí sna healaíona mar bhreathnóir agus mar rannpháirtí. Is féidir leis an siurnal seo bheith i bhfoirm scríofa dhigiteach, fuaime nó fí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Ba chóir go dtabharfadh an taibhiú deireanach na scileanna cuí uile le chéile agus fianaise ann ar fheabhas agus ar thiomantas.  Tá measúnú an taibhithe bunaithe ar na gnéithe cáilíochta a bhaineann le do ról sa taibhi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463B-958E-406D-B60E-3687A5E9E625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Guth an scolá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arrfar ort anois plé a dhéanamh i do ghrúpa ar céard a shíleann tú faoi na pleananna s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A5C2-1D3B-4861-9680-A10BC12622BA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BF5D-9B8C-489B-84C6-61C26E8B5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4BD4-363D-4330-A481-DF45327D120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384D8-818F-4065-95B9-DA5DD965935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82B47-6C22-4687-BB70-51C877FA026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5446E-7C4B-44C7-9D11-68CFB80B571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E41B2-0129-4A0B-967D-8B42A0583C7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82C5A-8D71-4D52-A1A0-6ABDD3A61F5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D8A95-4285-45D9-AD44-A2C6B3D1507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43DEF-8397-4667-AB40-568279C4E7F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6A92D-A9E6-45AD-A924-450EC0F52D3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D6635-3395-4D1B-B90F-0049F5A23EF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2BF02D-D541-4C5F-B729-B139F55C6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8615-1130-40E2-90BF-48F5BB1E06D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22428B-C84A-45C6-8191-E0EB7040E95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ECD7E2-F0BB-4E05-9460-3F4C7456E68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3D26CD-7C5D-420E-BFE8-1F2FA4D9ACC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BCE4E3-C6FC-4E73-AA29-EEE32215976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7185A9-006E-465A-96CC-63B8D953DEC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A34C7D-B079-4662-A2C5-34EBA97DF7F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B14C72-B0F8-43F4-AC18-39753529C58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04CCAE-AF4B-44CB-8A94-4F8A63B979E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B90C11-DEA9-4B60-981F-CAC53BABDC3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37E33C-802A-49E4-9975-BD15F3898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0ED6-8A5A-40B6-B713-A975232B941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442097-C2FA-4D89-B620-0748D4B3511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3D491-F370-4CEF-858B-CFE833C30F6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E0583-5130-4FCD-9BBF-3E87550F7FE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F47EA-506C-4FD4-A66E-B9B9335AC8E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464B9-3FF9-4250-8C4D-34305075EED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45613-28B3-493C-9E9F-5CAF14C67A0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394FC-8956-43A1-958D-196F6400521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285A6-8A1B-4D44-B4B2-5190B63223C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1B8BF-8323-4FCD-A766-4BFD1540285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B9ED4-5966-481D-8BFC-7A57C1A1B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0CDFE-A9DC-4132-A50B-558AED83CBC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29295-B462-4B39-8D96-4075B79A735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823E1-4E9C-4E21-A31B-F3CEF3022D6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C4DD9-B713-4DB8-85D8-771C29C8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0B768-BA4C-4E57-AED1-E1440D57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CF992-C972-4D22-9027-AE8F9FAF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37C32-DAD5-492B-8FC7-98C1A824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1A0F7-F09C-435E-BE34-0C33F8E2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4740A-E86C-4BCC-9841-74690A82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B590E-C877-409F-9791-9BFD42D9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3EA1D-6732-49C3-A684-A110D53A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4FE0F-369D-444C-B804-351EDDDB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89B80-BBDB-4486-B610-75403FEA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E6BC0-1D4A-4214-B83E-F66CDB80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C2A1F-0430-4A50-BF0A-5301161C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C0C8-218E-4843-9DA8-02502EF68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8F31-7C3E-4E4D-9492-A3A1DF026D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1F58-ADAF-4FE8-8F46-17B792EB91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3585B-06F3-4EAF-9D56-71935E61BA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113A3-137A-4AB6-B2F0-63B12957A0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604F1-19E3-44D6-B9C7-42E58373F3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39F0-7E9E-4476-ACAE-BEF33FCC40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A6B0-9E4E-43E1-BDF3-6F30D65D47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951AD-E5D7-4CAE-A35C-CC2EA24876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2152-8341-42B3-A257-EEAD8C6D70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83B5-F3D1-4534-8CE0-686DAC82B8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9005-5C39-4CB0-853C-3FBD063151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67B8-05EE-4AC3-BACC-8F5C1E11D7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57B8-7519-4C43-957B-1F3BDFC0F6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510-ED97-4EAD-A7B0-2C243FFCA5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6A8-37C2-4601-8221-8DAA94DCDC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6F1-E8FD-4888-97C6-717D48B8F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0E73-F22A-4AAB-BBBF-F8AA39ECFB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55D-7A48-46F7-A199-520B3867AB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F1D-0D05-4023-95A0-8C5A692808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922-E208-4CF9-B4E9-A126AD1A14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C34-CADE-4C68-8E4E-87BD1B6844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2A2-2503-484A-8296-27113640B5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51D-C7E3-4561-95B9-10BBC41F16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E17-0286-4398-927A-2519D7B2FF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747-2535-456B-AED5-74D90B7F3D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B8F-D2C3-4ED9-B589-7D9C5CBB744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3EC88-0846-46AF-9A25-E7F9D3314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750C-8403-4F37-AFE9-BE945B0269E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A671C-B8A6-4989-AD6D-23A1DCBFE04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2DDD7-668B-4077-93F7-C671EB9519C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F7E83-DC16-4606-A7A1-C118FD3FE71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73377-FD5B-4C3F-91DA-6F8593893CF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ED347-F89A-4755-A822-ADA2C361459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E13D7-F88F-4DCB-AF20-2C604690DFC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FF762-79B8-4DFF-8B97-42F9E9877B8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CE60A-D413-4DDE-B5F6-3F7FD93485F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1B639-432F-40B6-B279-C6FD3624053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2AD3F-FE17-409E-A920-D8CF1B3D9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9535-6C7B-4F38-8EA0-61C1A16F31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D7854-25C8-4B15-B099-8E5FBBD67A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AFA8-CD11-4DF4-924A-0AC24F519AA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9C9F-1A9F-4EEB-8048-FACF71C90D5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C057-90C7-4A74-AA6D-88089F6730A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D060-E8A9-42C1-BCCD-B8C9942C4B7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926D-874B-4099-ACEE-489B57B7353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0EF1-E181-4660-B807-74AB3F6ED1C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89E2-0565-436D-BCC2-F74128A724B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11A1-3324-4319-B261-7BCECD30039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9B8E-5CA9-4B49-944C-7E7C977AB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B110-C831-46B4-8552-0EF18D2DB7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753E-A390-4E57-A13E-14267022C49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3E88-ABE3-44C2-96F2-0F1A0A949C3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C60F-5F54-4517-B359-C513B7D5846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E014DB-2070-4CF1-B249-25E07D57BBB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BDE5F6-57A0-4900-B42F-F3333F8FE4F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1685A9-3BEF-48A9-89DE-BCE03100457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E2F9BC-87C8-4379-BC92-53CA27722E4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EB0FCE-BDDD-48BD-83A8-A6BAD1ECD79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170765-7815-4113-9C3B-D4201BC352E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6774CD-2913-4564-8031-50F86F3EB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743D-95CD-41DA-8FA5-039A08730BA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635E56-5E82-475A-9853-27CB36277CF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929CEF-740C-495D-88C4-74BFF8AFBF2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A0533A-973D-4984-B7B9-EE3CA574B70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EC6688-6AC4-49BF-B748-0C1ADF03A17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155F2A-BBF8-4EE5-A5EF-7C5791E4394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9708B-8C24-4FEC-BB9C-A7B045B8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63828E-61C3-4502-BD97-B378DF1A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AC9A91-B00D-4F5D-BD7B-9633A0C2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5014A-8E4E-40D7-92F3-DA3A5715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31DBDC-6E0B-4F72-94C5-F387829C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9D61-BE42-4C4D-B080-C6CD2A21221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712790-5E4F-43B0-BB83-E73C2585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78B95A-E183-4D8B-80AE-531706A9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FE0535-E6D9-4051-BC5F-BA253FC5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40442-9E00-4F02-9CF8-350FB272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9043E4-9E33-46A5-BF78-9F84CDF8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E315C0-63FC-4BA5-B33F-FB3C275F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CEC7DD-98CD-466F-A747-0B8AE823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5667A-8A1D-445C-BCBB-95837FF07D8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D8FF7-42AD-4104-A485-813430AEF01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51CE-54BE-4DFE-AD4E-C85FA1F4D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B231-1081-48A4-96B7-149CE0C74C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13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8CF9-8BB9-4415-945E-E6621727C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ftr" idx="14"/>
          </p:nvPr>
        </p:nvSpPr>
        <p:spPr>
          <a:xfrm>
            <a:off x="2641320" y="6447960"/>
            <a:ext cx="322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15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A858-5619-4AC9-9557-496D1AF56E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18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1d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9BB3-F35C-42EF-833B-74F55A5AFEB4}" type="slidenum">
              <a:rPr b="0" lang="en-US" sz="1200" spc="-1" strike="noStrike">
                <a:solidFill>
                  <a:srgbClr val="001d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41A6-D287-43A9-8113-894160198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C1C2-06A0-473C-AE05-CCCD98B22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4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D1F6-22EF-4031-A7D4-D972E3150C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2641320" y="6447960"/>
            <a:ext cx="322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6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FC93-0B24-49D6-B485-C254305BE1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10A7-9AD3-422B-9F1A-EBF0E275D7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9"/>
          </p:nvPr>
        </p:nvSpPr>
        <p:spPr>
          <a:xfrm>
            <a:off x="2641320" y="6447960"/>
            <a:ext cx="322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0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3938-BF1D-4CD3-B752-09135C3FB9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1"/>
          </p:nvPr>
        </p:nvSpPr>
        <p:spPr>
          <a:xfrm>
            <a:off x="2641320" y="6447960"/>
            <a:ext cx="322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2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64F8-2CA5-474A-BD68-B6AFC0EF68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609480" y="1600200"/>
            <a:ext cx="538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1d51"/>
                </a:solidFill>
                <a:latin typeface="Calibri"/>
              </a:rPr>
              <a:t>Comhairliúchán ar an nGearrchúrsa don Taibhiú Ealaíne </a:t>
            </a:r>
            <a:endParaRPr b="0" lang="en-US" sz="3600" spc="-1" strike="noStrike">
              <a:solidFill>
                <a:srgbClr val="001d51"/>
              </a:solidFill>
              <a:latin typeface="Calibri"/>
            </a:endParaRPr>
          </a:p>
        </p:txBody>
      </p:sp>
      <p:pic>
        <p:nvPicPr>
          <p:cNvPr id="546" name="Picture 4" descr="Screen Clipping"/>
          <p:cNvPicPr/>
          <p:nvPr/>
        </p:nvPicPr>
        <p:blipFill>
          <a:blip r:embed="rId1"/>
          <a:stretch/>
        </p:blipFill>
        <p:spPr>
          <a:xfrm>
            <a:off x="6359400" y="816120"/>
            <a:ext cx="4391280" cy="478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8800" y="10029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Gearrchúrsa Taibhithe Ealaíne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800" y="2390400"/>
            <a:ext cx="538488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e5bd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100 uair foghlama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e5bd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Arna theagasc thar 1, 2 nó 3 bliana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e5bd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Arna shonrú ag leibhéal comónta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e5bd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Is féidir oiread le 4 ghearrchúrsa a chur san áireamh sa teastas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</p:txBody>
      </p:sp>
      <p:pic>
        <p:nvPicPr>
          <p:cNvPr id="549" name="Content Placeholder 5" descr="Screen Clipping"/>
          <p:cNvPicPr/>
          <p:nvPr/>
        </p:nvPicPr>
        <p:blipFill>
          <a:blip r:embed="rId1"/>
          <a:stretch/>
        </p:blipFill>
        <p:spPr>
          <a:xfrm>
            <a:off x="6875640" y="2146320"/>
            <a:ext cx="4028760" cy="304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1360" y="9522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Gearrchúrsa Taibhithe Ealaíne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197400" y="1973160"/>
            <a:ext cx="538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Aidhm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Is í aidhm an ghearrchúrsa ar thaibhiú ealaíne scoláirí a ghabháil i ngníomhaíocht chruthaitheach agus i gcleachtais ealaíonta trí struchtúr a thairiscint is féidir a úsáid chun tionscadail shamhlaíocha chomhoibritheacha  agus indibhidiúla a éascú, i dtreo léiriú grúpa. 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</p:txBody>
      </p:sp>
      <p:pic>
        <p:nvPicPr>
          <p:cNvPr id="552" name="Content Placeholder 4" descr="Screen Clipping"/>
          <p:cNvPicPr/>
          <p:nvPr/>
        </p:nvPicPr>
        <p:blipFill>
          <a:blip r:embed="rId1"/>
          <a:stretch/>
        </p:blipFill>
        <p:spPr>
          <a:xfrm>
            <a:off x="609480" y="2346480"/>
            <a:ext cx="538488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       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Léargas ar an gcúrsa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pic>
        <p:nvPicPr>
          <p:cNvPr id="554" name="Content Placeholder 6" descr=""/>
          <p:cNvPicPr/>
          <p:nvPr/>
        </p:nvPicPr>
        <p:blipFill>
          <a:blip r:embed="rId1"/>
          <a:stretch/>
        </p:blipFill>
        <p:spPr>
          <a:xfrm>
            <a:off x="6188040" y="1603440"/>
            <a:ext cx="5407200" cy="3979800"/>
          </a:xfrm>
          <a:prstGeom prst="rect">
            <a:avLst/>
          </a:prstGeom>
          <a:ln w="0">
            <a:noFill/>
          </a:ln>
        </p:spPr>
      </p:pic>
      <p:sp>
        <p:nvSpPr>
          <p:cNvPr id="555" name="Slide Number Placeholder 4"/>
          <p:cNvSpPr/>
          <p:nvPr/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7F70-60CF-46A6-A81A-0704B4D40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Content Placeholder 3" descr="Screen Clipping"/>
          <p:cNvPicPr/>
          <p:nvPr/>
        </p:nvPicPr>
        <p:blipFill>
          <a:blip r:embed="rId2"/>
          <a:stretch/>
        </p:blipFill>
        <p:spPr>
          <a:xfrm>
            <a:off x="609480" y="2081160"/>
            <a:ext cx="5384880" cy="35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3048120" y="1397160"/>
          <a:ext cx="6095880" cy="2984400"/>
        </p:xfrm>
        <a:graphic>
          <a:graphicData uri="http://schemas.openxmlformats.org/drawingml/2006/table">
            <a:tbl>
              <a:tblPr/>
              <a:tblGrid>
                <a:gridCol w="2184120"/>
                <a:gridCol w="3911760"/>
              </a:tblGrid>
              <a:tr h="29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aith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 hEalaíona a bhr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paic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ibhithe ealaíne a bhreathn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itíc a dhéanamh ar an rud atá an fhoirm ealaíne a chur in iú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hthéacs na dtaibhithe ealaíne a mh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3048120" y="1397160"/>
          <a:ext cx="6095880" cy="3657600"/>
        </p:xfrm>
        <a:graphic>
          <a:graphicData uri="http://schemas.openxmlformats.org/drawingml/2006/table">
            <a:tbl>
              <a:tblPr/>
              <a:tblGrid>
                <a:gridCol w="2184120"/>
                <a:gridCol w="3911760"/>
              </a:tblGrid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aith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eanáil agus Ullmhúch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paic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inaithin an ghníomhaíocht chruthaitheach chomhoibrithe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inaithin láidreachta agus buanna an ghrú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an taighde ar acmhainní le do ról a fhorbai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éirigh tiomantas i leith spriocdhátaí cleachta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3048120" y="1397160"/>
          <a:ext cx="6095880" cy="3232080"/>
        </p:xfrm>
        <a:graphic>
          <a:graphicData uri="http://schemas.openxmlformats.org/drawingml/2006/table">
            <a:tbl>
              <a:tblPr/>
              <a:tblGrid>
                <a:gridCol w="2184120"/>
                <a:gridCol w="3911760"/>
              </a:tblGrid>
              <a:tr h="32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aith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 taibhiú ar an ard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paic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úshlán ealaíne tugtha i gcrích sa taibhi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súnú a dhéanamh ar do ról féin agus ról daoine eile sa taibhi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inaithin na scileanna agus an t-eolas atá faigh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Measúnú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pic>
        <p:nvPicPr>
          <p:cNvPr id="561" name="Content Placeholder 5" descr="Screen Clipping"/>
          <p:cNvPicPr/>
          <p:nvPr/>
        </p:nvPicPr>
        <p:blipFill>
          <a:blip r:embed="rId1"/>
          <a:stretch/>
        </p:blipFill>
        <p:spPr>
          <a:xfrm>
            <a:off x="2316240" y="2514600"/>
            <a:ext cx="1093680" cy="816120"/>
          </a:xfrm>
          <a:prstGeom prst="rect">
            <a:avLst/>
          </a:prstGeom>
          <a:ln w="0">
            <a:noFill/>
          </a:ln>
        </p:spPr>
      </p:pic>
      <p:sp>
        <p:nvSpPr>
          <p:cNvPr id="562" name="Rounded Rectangle 3"/>
          <p:cNvSpPr/>
          <p:nvPr/>
        </p:nvSpPr>
        <p:spPr>
          <a:xfrm>
            <a:off x="2149560" y="2494080"/>
            <a:ext cx="74390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iurnal Machnamh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ounded Rectangle 4"/>
          <p:cNvSpPr/>
          <p:nvPr/>
        </p:nvSpPr>
        <p:spPr>
          <a:xfrm>
            <a:off x="2149560" y="4081320"/>
            <a:ext cx="74390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aibhi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2" descr="Screen Clipping"/>
          <p:cNvPicPr/>
          <p:nvPr/>
        </p:nvPicPr>
        <p:blipFill>
          <a:blip r:embed="rId2"/>
          <a:stretch/>
        </p:blipFill>
        <p:spPr>
          <a:xfrm>
            <a:off x="2441520" y="4181400"/>
            <a:ext cx="1104840" cy="7160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Screen Clipping"/>
          <p:cNvPicPr/>
          <p:nvPr/>
        </p:nvPicPr>
        <p:blipFill>
          <a:blip r:embed="rId3"/>
          <a:stretch/>
        </p:blipFill>
        <p:spPr>
          <a:xfrm>
            <a:off x="2544840" y="2606760"/>
            <a:ext cx="693720" cy="72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2948040" y="1271520"/>
            <a:ext cx="5610240" cy="4314960"/>
          </a:xfrm>
          <a:prstGeom prst="rect">
            <a:avLst/>
          </a:prstGeom>
          <a:ln w="0">
            <a:noFill/>
          </a:ln>
        </p:spPr>
      </p:pic>
      <p:sp>
        <p:nvSpPr>
          <p:cNvPr id="567" name="TextBox 4"/>
          <p:cNvSpPr/>
          <p:nvPr/>
        </p:nvSpPr>
        <p:spPr>
          <a:xfrm>
            <a:off x="3733920" y="220968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76092"/>
                </a:solidFill>
                <a:latin typeface="Franklin Gothic Demi"/>
              </a:rPr>
              <a:t>Guth an scolá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16:31:11Z</dcterms:created>
  <dc:creator>Denise Kelly</dc:creator>
  <dc:description/>
  <dc:language>en-US</dc:language>
  <cp:lastModifiedBy>Fred Boss</cp:lastModifiedBy>
  <dcterms:modified xsi:type="dcterms:W3CDTF">2014-01-16T12:51:40Z</dcterms:modified>
  <cp:revision>20</cp:revision>
  <dc:subject/>
  <dc:title>PowerPoint Presentation</dc:title>
</cp:coreProperties>
</file>