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1AB6-0CDC-4C4A-8432-758C99DFDC64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9BC-F396-4CB5-B8E0-2C66513CD50C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á an gearrchúrsa comhdhéanta de thrí shraith. Díríonn gach sraith ar théama difriúil agus cabhróidh an chéad chúpla sleamhnán eile leat beagán níos mó tuisceana a bheith agat ar na téamaí difriúla se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C0B3-FC42-4C8A-B920-2E35589DB48C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Sa tsraith seo, cuirfidh tú leis an gcomhiarracht, i d’aonar agus i gcomhar le daoine eile, chun teacht ar réiteach ar an dúshlán ealaíne a thugtar i sraith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hun sin a dhéanamh is gá cumarsáid chuí a dhéanamh le piaraí, múinteoirí, ceannairí agus leo siúd atá ag freastal ar an imeac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abharfaidh tú súil siar freisin le do mhúinteoir ar an taibhiú deireanach inar ghlac tú páirt, agus aimseoidh tú na scileanna agus an t-eolas atá faighte agat, ag cur in iúl an inaistritheacht a bhaineann leo i leith achair eile do chuid foghl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F9C9-4B4C-4D62-BCC0-8F5A9CCCE50B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 Sraith 2, sainaithneoidh tú an ghníomhaíocht chruthaitheach chomhoibritheach  trí do smaointe féin agus trí éisteacht le smaointe daoine eile agus bheith ag cur leo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abharfaidh tú fianaise phraiticiúil ar na láidreachtaí agus na buanna a bhéarfaidh tusa chuig an tasc agus tú ag aithint bhuanna daoine ei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an dóigh le taighde agus acmhainní a úsáid, lena n-áirítear imeachtaí ealaíne a chabhróidh leat forbairt sa ról ata roghnaithe agat nó atá sannta d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eidh ort obair a dhéanamh go neamhspleách agus i gcomhar le piaraí, agus a thaispeáint go bhfuil tú tiomanta ar chloí le spriocdhátaí agus /nó freastal a dhéanamh ar chleachta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37B3-2137-4996-A4E0-0F22F4595E0D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Sa tsraith seo, cuirfidh tú leis an gcomhiarracht, i d’aonar agus i gcomhar le daoine eile, chun teacht ar réiteach ar an dúshlán ealaíne a thugtar i sraith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hun sin a dhéanamh is gá cumarsáid chuí a dhéanamh le piaraí, múinteoirí, ceannairí agus leo siúd atá ag freastal ar an imeac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abharfaidh tú súil siar freisin le do mhúinteoir ar an taibhiú deireanach inar ghlac tú páirt, agus aimseoidh tú na scileanna agus an t-eolas atá faighte agat, ag cur in iúl an inaistritheacht a bhaineann leo i leith achair eile de do chuid foghla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07C6-E5DF-43EE-B90F-BB3810AC054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eidh ort siurnal a choimeád chun cabhrú leat machnamh a dhéanamh ar do chuid foghlama le linn na gcéad dá shraith.  D’fhéadfadh go gclúdódh sé seo achoimre den fhaisnéis a d’fhoghlaim tú agus taifead de na léargais ar leith a fuair tú ó do thaithí sna healaíona mar bhreathnóir agus mar rannpháirtí. Is féidir leis an siurnal seo bheith i bhfoirm scríofa dhigiteach, fuaime nó fí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a chóir go dtabharfadh an taibhiú deireanach na scileanna cuí uile le chéile agus fianaise ann ar fheabhas agus ar thiomantas.  Tá measúnú an taibhithe bunaithe ar na gnéithe cáilíochta a bhaineann le do ról sa taibhi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450A-3214-471C-A0AF-CC6A118367ED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Guth an scolá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arrfar ort anois plé a dhéanamh i do ghrúpa ar céard a shíleann tú faoi na pleananna s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9D12-0D86-442F-B416-C9D8C3A629EB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FBBF-1F03-44DF-AE45-D87FA1AC7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641C-2FC1-4C45-8E11-0B40AE5BF38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88B4-0F84-419E-B2E5-6D37E44514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AF64-07E4-4A33-BB83-35F3E5DD666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80EA-EC61-4C91-9DE7-B69037DAEF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1C1E-B450-4813-84D1-929CE253B42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AFF9-F9E2-496A-B286-8AD2EEACC3D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4ED6-BBF9-45BB-8EBB-CA38F9AA97F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85824-24E3-4032-A62C-6660BA4F0B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A2A0-3C96-4077-8B73-FCAE7B82A92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B36F-D8F6-48BF-9F61-938D09F58ED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F922F-DB36-4384-B922-93950F2F9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2758-3EF0-4504-BA28-EE07881DE30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086ACD-B742-4D3D-A321-3ED93A13FB4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CCA58A-9B35-4F11-9507-62F9A104647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8C1C73-7D70-4FD8-A9A4-13420A4EE26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F48114-7842-4150-B072-D23806C89A0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1AF6E5-357D-4ACD-AB8F-0C801BD7ECA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1E871B-152D-4E9F-9349-2366F3A9C89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AD9544-A46B-43EF-B06C-9AFC46E3BB1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57FF3A-2D5C-421A-A3FD-B7424FF284B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1321CD-5D3D-415E-B3B0-DEEFE8C7BC1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B9A315-191F-49C8-A934-E4BC5FD2A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FBE8-2473-408C-AAE6-2AD8F66FBF6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C468CE-1B46-453C-823F-4A09B1BA84A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5D834-1C43-4E1A-B614-93D29973C4C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5271-23FF-47C8-88A9-4775ACD51FE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D3991-0922-42B9-B6E8-5FEB7F759A5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92731-7ED7-44B6-96B7-E613D19689C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231D-10F8-4A89-9ED5-2BD42E938A8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C50DF-933D-42D2-911E-A24BBBEFBDA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845E9-9279-41BE-95B7-9E8D0B12716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7F7CC-2EF7-42D2-A2F1-8486289DA2D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8DE4-9C84-46F3-9232-1147AEE6E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5A822-F559-492E-8B79-09DC317942B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B9122-0776-4CCE-A1A2-228B73B2597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F105D-3BF5-4A8B-92BE-1F0C1856598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677EE-929B-462A-942E-262BE1A3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2DB63-4E4F-4DF4-B35A-BF0E7190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1C7A6-6625-4A93-B308-E3DF165B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634E0-421C-407B-AC64-E4609338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8488F-BB94-4396-8EFF-69BD34A7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2DAD3-D403-4B14-A7DC-61F1B66C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9F5DB-A775-4744-938A-AB41300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F0D68-84EA-40D4-8306-843B5970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CC7F2-A4C2-4D4F-A7CA-016981F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D4E20-2C08-4BCF-B5BA-E3B399B5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20312-0CEC-4D3A-B78D-66AD5B89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3DEF6-9855-4B07-BE5A-C7E9789E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4A2A-B05A-46A4-9C2F-414BB1794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CA53-E894-4CA7-8C8D-E943528332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A723-9DDE-40ED-9173-C1B9738AE6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6BC8-EA47-423B-9D44-CF8338D898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DDF7-78C9-49FD-B88F-1D23AE178A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78492-0DCA-469F-8DB9-0C1F8D7741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006C-D562-4F0E-B701-2A987A108A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8EC3-4772-4CB2-BE69-51A7BC0340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90CA9-6379-43ED-A472-B478FE79CC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E930-6489-484F-8F1F-A3E9BBE05D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24EB-826D-480D-ACAE-DEF0C6FAE8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EB53-34B2-4A92-8C07-9BD28BF9D6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DF94-8374-4A8C-A5BF-DCDD15BDD8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6427D-4B89-4AAA-ACCA-4D7AED1BFA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805-C1C5-4052-AAC8-1DB423A0EB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50F-3C17-4CD5-B1ED-A4E7273C72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243-34CD-45BF-8EDC-0FF2BA5A2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9D0D-964E-4655-AEAA-AF8E52F935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22E-0298-4FEA-83E3-CAFF0FE265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6AD-E676-46A6-B091-FF37D9612E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261-B852-4B12-8DA5-21D8976814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31A-4A6B-47E5-991D-7570A50CB2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8DD-8AB7-4878-A615-7D485696AC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299-A996-4DBE-BFEC-341AE8A472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FCC-05A7-4548-89BB-A45E183AFD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B22-8DEA-41FC-AE19-7518584918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158-FD92-43A2-BEBE-7E0F7837EA2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D06A0-01BA-47A9-9A3E-65C617D27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FCF6-5857-47CF-A1A0-77B6F61B73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9492D-E373-4937-AC7F-7BE500EC2BE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8482B-529E-4238-9231-43AC98E92A8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430B2-3EA9-4546-8D91-F52B54C2EC7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7B9A7-EB1B-4B5E-BA64-222BBF6DCE6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2EE45-1ED8-401A-8E9C-1199E438C4B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DB175-D9FF-4139-A2A4-21CE936ED73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81796-8AEE-4B0B-AEFC-93B4A01CD8C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458CB-1CBE-4C31-B7E7-1DCCB1B7FF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6E3CB-2294-4C65-BB5E-0A9AC333004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0CF08-843D-42B5-81A9-0C2C29A12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3A7C-0B0B-41A0-A7DE-C2A0A1B28DA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91FE6-87DA-4EF2-826B-5AB4ED0C76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0034-D646-4397-9234-EE1FC9C3A3A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9110-B941-417B-BA02-7CFEA9F118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B712-AA84-47D8-95B6-07799F15828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3314-3B5C-445E-B5A6-50F3ACEED4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0E10-4F1F-4361-AD4F-85AA5C78603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7CBE-2398-4876-99A9-C050FDFA229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AB52-681A-4CB5-BEBF-EF905C896D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C3E3-45BB-4262-837E-824FADA141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21AB-2052-4A0E-9CD7-4B2619996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E148-2C2C-414E-8550-9F77A67416E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CB6D-EB12-43A5-8DEF-331DD45B64E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0FF5-F4DE-4426-A7B2-625BD7D62A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2862-39F3-4B63-AE99-57667EB502A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75422E-FFB5-4806-904C-B74B56ABF47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F4670-AFE7-4076-9337-3479AAB93B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AEF5D-CA76-42CE-A8E1-C8709B53A92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933FD-C5E6-490F-AFBD-566F26D48B8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BA9CA-C8F7-4137-ABF7-DA56AF670AB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D74C32-4515-4491-90E4-CD70B78BB4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6E200F-BA67-4071-BCB6-56C12CEA5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32A5-8BBE-472F-8F25-31EF14A148D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98EEF-2113-467C-99C2-546205B3924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E7CB7-5532-4CB9-9FC8-445D30B9212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968D1-6512-4AB3-9C08-FA8F7743822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53ABA3-EC8C-4571-9637-8A6D0167C99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7A312-FEDC-483A-8F60-CC2BE3B782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7F3B54-0DDE-476D-A564-3F723EDB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5B663B-A65A-4433-9099-1EF8FD60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5F9B6D-B7B7-4AF3-81EE-FFE3F28E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A759C-32DE-4A0A-A5CD-90C24F18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46A09-3F86-46A6-A3F5-0D189D0A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98A0-357E-4287-813A-281CBD0E49E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3B71B-5211-4139-8076-8F57D3DB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68C089-B058-4E33-888B-0F04FBBA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9E028-D3EC-410F-BB1D-BB23403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347BF4-511A-49D3-8577-A432A369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AF48F-C0CB-4823-B0B2-8B987877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B985AB-4DDB-46E5-B70C-9404C441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BE338-B5F7-489E-AC1C-9DF4B308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6BB2F-BC74-4F2F-BC15-B4292AECD4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01D8-7A3F-43FA-990D-A8E864C3EA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2A255-03CA-48D9-B77C-226045CF6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C20A-F0C0-431E-BE3B-CB1B047B82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13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D811-C19F-4EE5-A5A0-E4200ABB8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14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15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05EE-9173-41A5-8DA2-BB61748DC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18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1d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06BE-FF41-4433-99E0-7985FDD6265A}" type="slidenum">
              <a:rPr b="0" lang="en-US" sz="1200" spc="-1" strike="noStrike">
                <a:solidFill>
                  <a:srgbClr val="001d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4C6E-F733-44B9-BACD-2CD4DEB64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2337-4713-4EAF-84B1-769178944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197D-1BCF-4EB0-A7B6-7C41F41B3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6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E0D7-B25A-476D-9977-0CCFA093CD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92DC-8A27-4C64-A146-8F0FDC5920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9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0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6AB2-EDB3-4EFD-B43C-EA0FD58AD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1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2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38BD-C218-42A5-BB2D-D3F1AEC6F5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609480" y="1600200"/>
            <a:ext cx="538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1d51"/>
                </a:solidFill>
                <a:latin typeface="Calibri"/>
              </a:rPr>
              <a:t>Comhairliúchán ar an nGearrchúrsa don Taibhiú Ealaíne </a:t>
            </a:r>
            <a:endParaRPr b="0" lang="en-US" sz="36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46" name="Picture 4" descr="Screen Clipping"/>
          <p:cNvPicPr/>
          <p:nvPr/>
        </p:nvPicPr>
        <p:blipFill>
          <a:blip r:embed="rId1"/>
          <a:stretch/>
        </p:blipFill>
        <p:spPr>
          <a:xfrm>
            <a:off x="6359400" y="816120"/>
            <a:ext cx="4391280" cy="478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8800" y="10029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Gearrchúrsa Taibhithe Ealaíne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800" y="2390400"/>
            <a:ext cx="538488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100 uair foghlama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Arna theagasc thar 1, 2 nó 3 bliana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Arna shonrú ag leibhéal comónta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Is féidir oiread le 4 ghearrchúrsa a chur san áireamh sa teastas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49" name="Content Placeholder 5" descr="Screen Clipping"/>
          <p:cNvPicPr/>
          <p:nvPr/>
        </p:nvPicPr>
        <p:blipFill>
          <a:blip r:embed="rId1"/>
          <a:stretch/>
        </p:blipFill>
        <p:spPr>
          <a:xfrm>
            <a:off x="6875640" y="2146320"/>
            <a:ext cx="402876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1360" y="9522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Gearrchúrsa Taibhithe Ealaíne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197400" y="1973160"/>
            <a:ext cx="538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Aidhm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Is í aidhm an ghearrchúrsa ar thaibhiú ealaíne scoláirí a ghabháil i ngníomhaíocht chruthaitheach agus i gcleachtais ealaíonta trí struchtúr a thairiscint is féidir a úsáid chun tionscadail shamhlaíocha chomhoibritheacha  agus indibhidiúla a éascú, i dtreo léiriú grúpa. 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52" name="Content Placeholder 4" descr="Screen Clipping"/>
          <p:cNvPicPr/>
          <p:nvPr/>
        </p:nvPicPr>
        <p:blipFill>
          <a:blip r:embed="rId1"/>
          <a:stretch/>
        </p:blipFill>
        <p:spPr>
          <a:xfrm>
            <a:off x="609480" y="2346480"/>
            <a:ext cx="538488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       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Léargas ar an gcúrsa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54" name="Content Placeholder 6" descr=""/>
          <p:cNvPicPr/>
          <p:nvPr/>
        </p:nvPicPr>
        <p:blipFill>
          <a:blip r:embed="rId1"/>
          <a:stretch/>
        </p:blipFill>
        <p:spPr>
          <a:xfrm>
            <a:off x="6188040" y="1603440"/>
            <a:ext cx="5407200" cy="3979800"/>
          </a:xfrm>
          <a:prstGeom prst="rect">
            <a:avLst/>
          </a:prstGeom>
          <a:ln w="0">
            <a:noFill/>
          </a:ln>
        </p:spPr>
      </p:pic>
      <p:sp>
        <p:nvSpPr>
          <p:cNvPr id="555" name="Slide Number Placeholder 4"/>
          <p:cNvSpPr/>
          <p:nvPr/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FC37-16AE-48A3-BCD3-50FB82CBC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Content Placeholder 3" descr="Screen Clipping"/>
          <p:cNvPicPr/>
          <p:nvPr/>
        </p:nvPicPr>
        <p:blipFill>
          <a:blip r:embed="rId2"/>
          <a:stretch/>
        </p:blipFill>
        <p:spPr>
          <a:xfrm>
            <a:off x="609480" y="2081160"/>
            <a:ext cx="5384880" cy="35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3048120" y="1397160"/>
          <a:ext cx="6095880" cy="2984400"/>
        </p:xfrm>
        <a:graphic>
          <a:graphicData uri="http://schemas.openxmlformats.org/drawingml/2006/table">
            <a:tbl>
              <a:tblPr/>
              <a:tblGrid>
                <a:gridCol w="2184120"/>
                <a:gridCol w="3911760"/>
              </a:tblGrid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aith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 hEalaíona a bhr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aic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ibhithe ealaíne a bhreathn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tíc a dhéanamh ar an rud atá an fhoirm ealaíne a chur in iú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hthéacs na dtaibhithe ealaíne a mh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3048120" y="1397160"/>
          <a:ext cx="6095880" cy="3657600"/>
        </p:xfrm>
        <a:graphic>
          <a:graphicData uri="http://schemas.openxmlformats.org/drawingml/2006/table">
            <a:tbl>
              <a:tblPr/>
              <a:tblGrid>
                <a:gridCol w="2184120"/>
                <a:gridCol w="3911760"/>
              </a:tblGrid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aith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eanáil agus Ullmhúch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aic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inaithin an ghníomhaíocht chruthaitheach chomhoibrithe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inaithin láidreachta agus buanna an ghrú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an taighde ar acmhainní le do ról a fhorbai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éirigh tiomantas i leith spriocdhátaí cleachta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3048120" y="1397160"/>
          <a:ext cx="6095880" cy="3232080"/>
        </p:xfrm>
        <a:graphic>
          <a:graphicData uri="http://schemas.openxmlformats.org/drawingml/2006/table">
            <a:tbl>
              <a:tblPr/>
              <a:tblGrid>
                <a:gridCol w="2184120"/>
                <a:gridCol w="3911760"/>
              </a:tblGrid>
              <a:tr h="32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aith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 taibhiú ar an ard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aic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úshlán ealaíne tugtha i gcrích sa taibhi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súnú a dhéanamh ar do ról féin agus ról daoine eile sa taibhi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inaithin na scileanna agus an t-eolas atá faigh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Measúnú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61" name="Content Placeholder 5" descr="Screen Clipping"/>
          <p:cNvPicPr/>
          <p:nvPr/>
        </p:nvPicPr>
        <p:blipFill>
          <a:blip r:embed="rId1"/>
          <a:stretch/>
        </p:blipFill>
        <p:spPr>
          <a:xfrm>
            <a:off x="2316240" y="2514600"/>
            <a:ext cx="1093680" cy="816120"/>
          </a:xfrm>
          <a:prstGeom prst="rect">
            <a:avLst/>
          </a:prstGeom>
          <a:ln w="0">
            <a:noFill/>
          </a:ln>
        </p:spPr>
      </p:pic>
      <p:sp>
        <p:nvSpPr>
          <p:cNvPr id="562" name="Rounded Rectangle 3"/>
          <p:cNvSpPr/>
          <p:nvPr/>
        </p:nvSpPr>
        <p:spPr>
          <a:xfrm>
            <a:off x="2149560" y="2494080"/>
            <a:ext cx="74390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iurnal Machnamh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ounded Rectangle 4"/>
          <p:cNvSpPr/>
          <p:nvPr/>
        </p:nvSpPr>
        <p:spPr>
          <a:xfrm>
            <a:off x="2149560" y="4081320"/>
            <a:ext cx="74390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aibhi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2" descr="Screen Clipping"/>
          <p:cNvPicPr/>
          <p:nvPr/>
        </p:nvPicPr>
        <p:blipFill>
          <a:blip r:embed="rId2"/>
          <a:stretch/>
        </p:blipFill>
        <p:spPr>
          <a:xfrm>
            <a:off x="2441520" y="4181400"/>
            <a:ext cx="1104840" cy="7160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Screen Clipping"/>
          <p:cNvPicPr/>
          <p:nvPr/>
        </p:nvPicPr>
        <p:blipFill>
          <a:blip r:embed="rId3"/>
          <a:stretch/>
        </p:blipFill>
        <p:spPr>
          <a:xfrm>
            <a:off x="2544840" y="2606760"/>
            <a:ext cx="69372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948040" y="1271520"/>
            <a:ext cx="5610240" cy="4314960"/>
          </a:xfrm>
          <a:prstGeom prst="rect">
            <a:avLst/>
          </a:prstGeom>
          <a:ln w="0">
            <a:noFill/>
          </a:ln>
        </p:spPr>
      </p:pic>
      <p:sp>
        <p:nvSpPr>
          <p:cNvPr id="567" name="TextBox 4"/>
          <p:cNvSpPr/>
          <p:nvPr/>
        </p:nvSpPr>
        <p:spPr>
          <a:xfrm>
            <a:off x="3733920" y="220968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76092"/>
                </a:solidFill>
                <a:latin typeface="Franklin Gothic Demi"/>
              </a:rPr>
              <a:t>Guth an scolá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6:31:11Z</dcterms:created>
  <dc:creator>Denise Kelly</dc:creator>
  <dc:description/>
  <dc:language>en-US</dc:language>
  <cp:lastModifiedBy>Fred Boss</cp:lastModifiedBy>
  <dcterms:modified xsi:type="dcterms:W3CDTF">2014-01-16T12:51:40Z</dcterms:modified>
  <cp:revision>20</cp:revision>
  <dc:subject/>
  <dc:title>PowerPoint Presentation</dc:title>
</cp:coreProperties>
</file>